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1.png" ContentType="image/pn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107.jpeg" ContentType="image/jpeg"/>
  <Override PartName="/ppt/media/image9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.png" ContentType="image/png"/>
  <Override PartName="/ppt/media/image72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63.jpeg" ContentType="image/jpeg"/>
  <Override PartName="/ppt/media/image64.jpeg" ContentType="image/jpeg"/>
  <Override PartName="/ppt/media/image71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15.jpeg" ContentType="image/jpeg"/>
  <Override PartName="/ppt/media/image69.jpeg" ContentType="image/jpeg"/>
  <Override PartName="/ppt/media/image114.jpeg" ContentType="image/jpeg"/>
  <Override PartName="/ppt/media/image68.jpeg" ContentType="image/jpeg"/>
  <Override PartName="/ppt/media/image113.jpeg" ContentType="image/jpeg"/>
  <Override PartName="/ppt/media/image96.jpeg" ContentType="image/jpeg"/>
  <Override PartName="/ppt/media/image94.jpeg" ContentType="image/jpeg"/>
  <Override PartName="/ppt/media/image91.jpeg" ContentType="image/jpeg"/>
  <Override PartName="/ppt/media/image111.jpeg" ContentType="image/jpeg"/>
  <Override PartName="/ppt/media/image70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93.jpeg" ContentType="image/jpeg"/>
  <Override PartName="/ppt/media/image90.jpeg" ContentType="image/jpeg"/>
  <Override PartName="/ppt/media/image110.jpeg" ContentType="image/jpeg"/>
  <Override PartName="/ppt/media/image67.jpeg" ContentType="image/jpeg"/>
  <Override PartName="/ppt/media/image95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66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23.jpeg" ContentType="image/jpeg"/>
  <Override PartName="/ppt/media/image119.jpeg" ContentType="image/jpeg"/>
  <Override PartName="/ppt/media/image102.jpeg" ContentType="image/jpeg"/>
  <Override PartName="/ppt/media/image82.jpeg" ContentType="image/jpeg"/>
  <Override PartName="/ppt/media/image22.jpeg" ContentType="image/jpeg"/>
  <Override PartName="/ppt/media/image118.jpeg" ContentType="image/jpeg"/>
  <Override PartName="/ppt/media/image101.jpeg" ContentType="image/jpeg"/>
  <Override PartName="/ppt/media/image81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jpeg" ContentType="image/jpeg"/>
  <Override PartName="/ppt/media/image103.jpeg" ContentType="image/jpeg"/>
  <Override PartName="/ppt/media/image8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B14A-4C4B-4D0D-AE22-57B715E5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608-4149-4694-8E97-BFB9217F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E21-FCF4-4B93-ADD8-7BE6F208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7AA5-9B51-4385-A412-46DDFDD5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482-23B7-4313-B629-0DF7506E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8A6-3991-4702-9485-AC76D4E2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CD6-396B-405F-9948-02858BC1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B1B1-7F16-4B74-9F96-4B234A01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643F-DD29-448E-B3F5-B1E50427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C37-10EF-4A35-87AA-1188E9A8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FAE1-3F0C-47B2-BEE0-1274D8DC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D86-6F03-45D1-A2A3-BFC1F8E4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Monotype Corsiv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793E-A394-4FF1-8E3E-3FBDF0E0AA45}" type="slidenum">
              <a:rPr b="0" lang="ru-RU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image" Target="../media/image105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image" Target="../media/image113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image" Target="../media/image117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8.jpeg"/><Relationship Id="rId2" Type="http://schemas.openxmlformats.org/officeDocument/2006/relationships/image" Target="../media/image119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581040"/>
            <a:ext cx="3595680" cy="451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30200" y="676440"/>
            <a:ext cx="422928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На пошану видатного вченого,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Член-кореспондента НАН  України,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доктора історичних наук  ,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Генерального директора НБУВ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Дубровіна </a:t>
            </a: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ЛюбовАндріївна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сучасний історик, книгознавець, джерелознавець,діяч бібліотечної та архівної справи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3" name="Picture 3" descr="E:\Мои рисунки\музей1\нбув\дубровина\photo.jpg"/>
          <p:cNvPicPr/>
          <p:nvPr/>
        </p:nvPicPr>
        <p:blipFill>
          <a:blip r:embed="rId1"/>
          <a:stretch/>
        </p:blipFill>
        <p:spPr>
          <a:xfrm>
            <a:off x="4535640" y="536400"/>
            <a:ext cx="423036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257480" y="1680840"/>
            <a:ext cx="32414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59537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75440" y="1680840"/>
            <a:ext cx="32414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9000"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3585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6" name="Содержимое 11" descr="ВА595370.jpg"/>
          <p:cNvPicPr/>
          <p:nvPr/>
        </p:nvPicPr>
        <p:blipFill>
          <a:blip r:embed="rId1"/>
          <a:stretch/>
        </p:blipFill>
        <p:spPr>
          <a:xfrm>
            <a:off x="1252440" y="2505240"/>
            <a:ext cx="262440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" name="Содержимое 4" descr="ВС35857.jpg"/>
          <p:cNvPicPr/>
          <p:nvPr/>
        </p:nvPicPr>
        <p:blipFill>
          <a:blip r:embed="rId2"/>
          <a:stretch/>
        </p:blipFill>
        <p:spPr>
          <a:xfrm>
            <a:off x="5311800" y="2505240"/>
            <a:ext cx="252252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Monotype Corsiva"/>
              </a:rPr>
              <a:t>•</a:t>
            </a:r>
            <a:r>
              <a:rPr b="1" lang="uk-UA" sz="1800" spc="-1" strike="noStrike">
                <a:solidFill>
                  <a:srgbClr val="000000"/>
                </a:solidFill>
                <a:latin typeface="Monotype Corsiva"/>
              </a:rPr>
              <a:t>розвиває кодикологічні засади дослідження рукописно-книжної спадщини, камеральної археографії та кодикографії рукописних пам’яток, текстології пам’яток середньовічної слов’янської писемності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57480" y="1680840"/>
            <a:ext cx="32414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35426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0" name="Содержимое 6" descr="ВС35426.jpg"/>
          <p:cNvPicPr/>
          <p:nvPr/>
        </p:nvPicPr>
        <p:blipFill>
          <a:blip r:embed="rId1"/>
          <a:stretch/>
        </p:blipFill>
        <p:spPr>
          <a:xfrm>
            <a:off x="1260360" y="2505240"/>
            <a:ext cx="260820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22880" y="1680840"/>
            <a:ext cx="32940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Онищенко О.С. ВА689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2" name="Содержимое 7" descr="Онищенко ВА689.jpg"/>
          <p:cNvPicPr/>
          <p:nvPr/>
        </p:nvPicPr>
        <p:blipFill>
          <a:blip r:embed="rId2"/>
          <a:stretch/>
        </p:blipFill>
        <p:spPr>
          <a:xfrm>
            <a:off x="5251320" y="2505240"/>
            <a:ext cx="264348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66840" y="1680840"/>
            <a:ext cx="3232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64297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66800" y="1680840"/>
            <a:ext cx="32497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Онищенко О.С. ВС115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5" name="Picture 5" descr="Scan-130719-0020"/>
          <p:cNvPicPr/>
          <p:nvPr/>
        </p:nvPicPr>
        <p:blipFill>
          <a:blip r:embed="rId1"/>
          <a:stretch/>
        </p:blipFill>
        <p:spPr>
          <a:xfrm>
            <a:off x="1263600" y="2505240"/>
            <a:ext cx="260208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6" name="Picture 2" descr="C:\Documents and Settings\prokoshina\Мои документы\Мои рисунки\библиотека\2018-06-07-0070.jpg"/>
          <p:cNvPicPr/>
          <p:nvPr/>
        </p:nvPicPr>
        <p:blipFill>
          <a:blip r:embed="rId2"/>
          <a:stretch/>
        </p:blipFill>
        <p:spPr>
          <a:xfrm>
            <a:off x="5295960" y="2505240"/>
            <a:ext cx="255420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Monotype Corsiva"/>
              </a:rPr>
              <a:t>•</a:t>
            </a:r>
            <a:r>
              <a:rPr b="1" lang="uk-UA" sz="1800" spc="-1" strike="noStrike">
                <a:solidFill>
                  <a:srgbClr val="000000"/>
                </a:solidFill>
                <a:latin typeface="Monotype Corsiva"/>
              </a:rPr>
              <a:t>сприяє створенню електронних ресурсів на базі унікальних книжкових пам’яток, рукописних та книжкових колекцій і зібрань НБУВ, а також виданню рукописних писемних пам’яток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9480" y="1680840"/>
            <a:ext cx="325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Онищенко О.С. СО2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9" name="Содержимое 4" descr="Онищенко СО27.jpg"/>
          <p:cNvPicPr/>
          <p:nvPr/>
        </p:nvPicPr>
        <p:blipFill>
          <a:blip r:embed="rId1"/>
          <a:stretch/>
        </p:blipFill>
        <p:spPr>
          <a:xfrm>
            <a:off x="1235160" y="2505240"/>
            <a:ext cx="265896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92720" y="1680840"/>
            <a:ext cx="32241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С4682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1" name="Содержимое 5" descr="Вс .jpg"/>
          <p:cNvPicPr/>
          <p:nvPr/>
        </p:nvPicPr>
        <p:blipFill>
          <a:blip r:embed="rId2"/>
          <a:stretch/>
        </p:blipFill>
        <p:spPr>
          <a:xfrm>
            <a:off x="5294160" y="2505240"/>
            <a:ext cx="25574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230120" y="1680840"/>
            <a:ext cx="32670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701428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28880" y="2469960"/>
            <a:ext cx="388764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Наукова конференція "Бібліотеки України в період Великої Вітчизняної війни". </a:t>
            </a: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27 травня 2005 р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4" name="Содержимое 9" descr="dubrovina.jpg"/>
          <p:cNvPicPr/>
          <p:nvPr/>
        </p:nvPicPr>
        <p:blipFill>
          <a:blip r:embed="rId1"/>
          <a:stretch/>
        </p:blipFill>
        <p:spPr>
          <a:xfrm>
            <a:off x="4629240" y="3057480"/>
            <a:ext cx="3887640" cy="257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Picture 2" descr="C:\Documents and Settings\prokoshina\Мои документы\Мои рисунки\библиотека\2018-06-06-0009.jpg"/>
          <p:cNvPicPr/>
          <p:nvPr/>
        </p:nvPicPr>
        <p:blipFill>
          <a:blip r:embed="rId2"/>
          <a:stretch/>
        </p:blipFill>
        <p:spPr>
          <a:xfrm>
            <a:off x="1258920" y="2505240"/>
            <a:ext cx="26114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Monotype Corsiva"/>
              </a:rPr>
              <a:t>•</a:t>
            </a:r>
            <a:r>
              <a:rPr b="1" lang="uk-UA" sz="1800" spc="-1" strike="noStrike">
                <a:solidFill>
                  <a:srgbClr val="000000"/>
                </a:solidFill>
                <a:latin typeface="Monotype Corsiva"/>
              </a:rPr>
              <a:t>розробляє методичні засади наукового опису книжних джерел, колекцій, зібрань, бібліотек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04920" y="1680840"/>
            <a:ext cx="32940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70305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8" name="Содержимое 4" descr="ВА703051.jpg"/>
          <p:cNvPicPr/>
          <p:nvPr/>
        </p:nvPicPr>
        <p:blipFill>
          <a:blip r:embed="rId1"/>
          <a:stretch/>
        </p:blipFill>
        <p:spPr>
          <a:xfrm>
            <a:off x="1216080" y="2505240"/>
            <a:ext cx="269712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9360" y="1680840"/>
            <a:ext cx="31971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4794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0" name="Содержимое 5" descr="ВС47947а.jpg"/>
          <p:cNvPicPr/>
          <p:nvPr/>
        </p:nvPicPr>
        <p:blipFill>
          <a:blip r:embed="rId2"/>
          <a:stretch/>
        </p:blipFill>
        <p:spPr>
          <a:xfrm>
            <a:off x="5326200" y="2505240"/>
            <a:ext cx="249372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239480" y="1680840"/>
            <a:ext cx="325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5030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Содержимое 6" descr="ВС50301.jpg"/>
          <p:cNvPicPr/>
          <p:nvPr/>
        </p:nvPicPr>
        <p:blipFill>
          <a:blip r:embed="rId1"/>
          <a:stretch/>
        </p:blipFill>
        <p:spPr>
          <a:xfrm>
            <a:off x="1260360" y="2505240"/>
            <a:ext cx="260820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52680" y="1680840"/>
            <a:ext cx="34988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рочисте відкриття книжково-інформаційних виставок, наданих Національною бібліотекою Білорусі, —"Діаманти білоруського  письменства"; "Національній бібліотеці Білорусі — 85", та "Білоруська література в українських перекладах" із фондів НБУВ. </a:t>
            </a: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4 червня 2007 р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4" name="Содержимое 7" descr="dubrovin.jpg"/>
          <p:cNvPicPr/>
          <p:nvPr/>
        </p:nvPicPr>
        <p:blipFill>
          <a:blip r:embed="rId2"/>
          <a:stretch/>
        </p:blipFill>
        <p:spPr>
          <a:xfrm>
            <a:off x="5191200" y="2505240"/>
            <a:ext cx="276372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Monotype Corsiva"/>
              </a:rPr>
              <a:t>•</a:t>
            </a:r>
            <a:r>
              <a:rPr b="1" lang="uk-UA" sz="1800" spc="-1" strike="noStrike">
                <a:solidFill>
                  <a:srgbClr val="000000"/>
                </a:solidFill>
                <a:latin typeface="Monotype Corsiva"/>
              </a:rPr>
              <a:t>очолює створення комплексних архівних та рукописних довідників нового покоління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47400" y="1680840"/>
            <a:ext cx="32511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52206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7" name="Содержимое 4" descr="ВС52206.jpg"/>
          <p:cNvPicPr/>
          <p:nvPr/>
        </p:nvPicPr>
        <p:blipFill>
          <a:blip r:embed="rId1"/>
          <a:stretch/>
        </p:blipFill>
        <p:spPr>
          <a:xfrm>
            <a:off x="1265400" y="2505240"/>
            <a:ext cx="259848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22880" y="1680840"/>
            <a:ext cx="32940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354412/1-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9" name="Содержимое 5" descr="В354412.2.jpg"/>
          <p:cNvPicPr/>
          <p:nvPr/>
        </p:nvPicPr>
        <p:blipFill>
          <a:blip r:embed="rId2"/>
          <a:stretch/>
        </p:blipFill>
        <p:spPr>
          <a:xfrm>
            <a:off x="5240160" y="2505240"/>
            <a:ext cx="26654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66840" y="1680840"/>
            <a:ext cx="3232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353608/1-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1" name="Содержимое 4" descr="В3353608.1-2.jpg"/>
          <p:cNvPicPr/>
          <p:nvPr/>
        </p:nvPicPr>
        <p:blipFill>
          <a:blip r:embed="rId1"/>
          <a:stretch/>
        </p:blipFill>
        <p:spPr>
          <a:xfrm>
            <a:off x="1293840" y="2505240"/>
            <a:ext cx="254160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87600" y="1680840"/>
            <a:ext cx="33289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XXII читання академіка В. І. Вернадського "Володимир Вернадський і суспільство знань XXI століття».</a:t>
            </a: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12 березня 2012 р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3" name="Содержимое 6" descr="03.jpg"/>
          <p:cNvPicPr/>
          <p:nvPr/>
        </p:nvPicPr>
        <p:blipFill>
          <a:blip r:embed="rId2"/>
          <a:stretch/>
        </p:blipFill>
        <p:spPr>
          <a:xfrm>
            <a:off x="5191200" y="2505240"/>
            <a:ext cx="276372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Monotype Corsiva"/>
              </a:rPr>
              <a:t>•</a:t>
            </a:r>
            <a:r>
              <a:rPr b="1" lang="uk-UA" sz="1600" spc="-1" strike="noStrike">
                <a:solidFill>
                  <a:srgbClr val="000000"/>
                </a:solidFill>
                <a:latin typeface="Monotype Corsiva"/>
              </a:rPr>
              <a:t>є автором, укладачем та науковим редактором понад 300 наукових публікацій, в тому числі 25 індивідуальних та колективних монографій, присвячених історії бібліотечної справи в Україні, зокрема – історії НБУВ, історії розвитку академічної науки, біографічним дослідженням життя та діяльності вчених, котрі зробили внесок у розвиток архівної і бібліотечної справи, дослідженню рукописної спадщини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2040" y="1680840"/>
            <a:ext cx="3205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52366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6" name="Содержимое 5" descr="ВС52366.jpg"/>
          <p:cNvPicPr/>
          <p:nvPr/>
        </p:nvPicPr>
        <p:blipFill>
          <a:blip r:embed="rId1"/>
          <a:stretch/>
        </p:blipFill>
        <p:spPr>
          <a:xfrm>
            <a:off x="1309680" y="2505240"/>
            <a:ext cx="250992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40160" y="1680840"/>
            <a:ext cx="32767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75145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8" name="Содержимое 7" descr="ВА751454.jpg"/>
          <p:cNvPicPr/>
          <p:nvPr/>
        </p:nvPicPr>
        <p:blipFill>
          <a:blip r:embed="rId2"/>
          <a:stretch/>
        </p:blipFill>
        <p:spPr>
          <a:xfrm>
            <a:off x="5235480" y="2505240"/>
            <a:ext cx="267516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Monotype Corsiva"/>
              </a:rPr>
              <a:t>Життєпи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87280" y="987480"/>
            <a:ext cx="46292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300" spc="-1" strike="noStrike">
                <a:solidFill>
                  <a:srgbClr val="000000"/>
                </a:solidFill>
                <a:latin typeface="Monotype Corsiva"/>
              </a:rPr>
              <a:t>Дубро́віна Любо́в Андрі́ївна</a:t>
            </a:r>
            <a:endParaRPr b="0" lang="en-US" sz="2300" spc="-1" strike="noStrike">
              <a:solidFill>
                <a:srgbClr val="000000"/>
              </a:solidFill>
              <a:latin typeface="Monotype Corsiva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Monotype Corsiva"/>
              </a:rPr>
              <a:t>    – </a:t>
            </a:r>
            <a:r>
              <a:rPr b="1" lang="uk-UA" sz="2100" spc="-1" strike="noStrike">
                <a:solidFill>
                  <a:srgbClr val="000000"/>
                </a:solidFill>
                <a:latin typeface="Monotype Corsiva"/>
              </a:rPr>
              <a:t>джерелознавець, книгознавець, документознавець, архівознавець, історик бібліотечної справи, доктор історичних наук (1993), професор (1996), член-кореспондент Національної академії наук України (2006), заслужений діяч науки і техніки України (2004), генеральний директор Національної бібліотеки України імені В. І. Вернадського (НБУВ; з 7 листопада 2018).</a:t>
            </a:r>
            <a:endParaRPr b="0" lang="en-US" sz="2100" spc="-1" strike="noStrike">
              <a:solidFill>
                <a:srgbClr val="000000"/>
              </a:solidFill>
              <a:latin typeface="Monotype Corsiva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0000" y="2057400"/>
            <a:ext cx="294948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7" name="Picture 4" descr="E:\Мои рисунки\VueScan\дубровина\YMKA-PRESS№54.7.1.jpg"/>
          <p:cNvPicPr/>
          <p:nvPr/>
        </p:nvPicPr>
        <p:blipFill>
          <a:blip r:embed="rId1"/>
          <a:stretch/>
        </p:blipFill>
        <p:spPr>
          <a:xfrm>
            <a:off x="642960" y="2075040"/>
            <a:ext cx="3022560" cy="39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274760" y="1680840"/>
            <a:ext cx="32227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5303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0" name="Содержимое 6" descr="ВС53030.jpg"/>
          <p:cNvPicPr/>
          <p:nvPr/>
        </p:nvPicPr>
        <p:blipFill>
          <a:blip r:embed="rId1"/>
          <a:stretch/>
        </p:blipFill>
        <p:spPr>
          <a:xfrm>
            <a:off x="1316160" y="2505240"/>
            <a:ext cx="2496960" cy="3684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40160" y="1680840"/>
            <a:ext cx="32767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65193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2" name="Содержимое 7" descr="ВС65193.jpg"/>
          <p:cNvPicPr/>
          <p:nvPr/>
        </p:nvPicPr>
        <p:blipFill>
          <a:blip r:embed="rId2"/>
          <a:stretch/>
        </p:blipFill>
        <p:spPr>
          <a:xfrm>
            <a:off x="5251320" y="2505240"/>
            <a:ext cx="264348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239480" y="1680840"/>
            <a:ext cx="325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754238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4" name="Содержимое 4" descr="ВА754238.jpg"/>
          <p:cNvPicPr/>
          <p:nvPr/>
        </p:nvPicPr>
        <p:blipFill>
          <a:blip r:embed="rId1"/>
          <a:stretch/>
        </p:blipFill>
        <p:spPr>
          <a:xfrm>
            <a:off x="1239840" y="2505240"/>
            <a:ext cx="264960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02080" y="1680840"/>
            <a:ext cx="32148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54338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6" name="Содержимое 5" descr="ВС54338.jpg"/>
          <p:cNvPicPr/>
          <p:nvPr/>
        </p:nvPicPr>
        <p:blipFill>
          <a:blip r:embed="rId2"/>
          <a:stretch/>
        </p:blipFill>
        <p:spPr>
          <a:xfrm>
            <a:off x="5311800" y="2505240"/>
            <a:ext cx="252252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Monotype Corsiva"/>
              </a:rPr>
              <a:t>•</a:t>
            </a:r>
            <a:r>
              <a:rPr b="1" lang="uk-UA" sz="1800" spc="-1" strike="noStrike">
                <a:solidFill>
                  <a:srgbClr val="000000"/>
                </a:solidFill>
                <a:latin typeface="Monotype Corsiva"/>
              </a:rPr>
              <a:t>входить до складу Спілки архівістів України, Міжнародної асоціації україністів, Міжнародного товариства «Український історик», редакційно-видавничої ради Національної бібліотеки України імені В. І. Вернадського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09320" y="1680840"/>
            <a:ext cx="31892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55116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9" name="Содержимое 4" descr="ВС55116.jpg"/>
          <p:cNvPicPr/>
          <p:nvPr/>
        </p:nvPicPr>
        <p:blipFill>
          <a:blip r:embed="rId1"/>
          <a:stretch/>
        </p:blipFill>
        <p:spPr>
          <a:xfrm>
            <a:off x="1308240" y="2505240"/>
            <a:ext cx="251280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92720" y="1680840"/>
            <a:ext cx="32241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5864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1" name="Содержимое 5" descr="ВС58641.jpg"/>
          <p:cNvPicPr/>
          <p:nvPr/>
        </p:nvPicPr>
        <p:blipFill>
          <a:blip r:embed="rId2"/>
          <a:stretch/>
        </p:blipFill>
        <p:spPr>
          <a:xfrm>
            <a:off x="5300640" y="2505240"/>
            <a:ext cx="25448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47400" y="1680840"/>
            <a:ext cx="32511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78470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3" name="Содержимое 6" descr="ВА784704.jpg"/>
          <p:cNvPicPr/>
          <p:nvPr/>
        </p:nvPicPr>
        <p:blipFill>
          <a:blip r:embed="rId1"/>
          <a:stretch/>
        </p:blipFill>
        <p:spPr>
          <a:xfrm>
            <a:off x="1241280" y="2505240"/>
            <a:ext cx="264636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248080" y="1680840"/>
            <a:ext cx="32684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79174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5" name="Содержимое 7" descr="ВА791742.jpg"/>
          <p:cNvPicPr/>
          <p:nvPr/>
        </p:nvPicPr>
        <p:blipFill>
          <a:blip r:embed="rId2"/>
          <a:stretch/>
        </p:blipFill>
        <p:spPr>
          <a:xfrm>
            <a:off x="5240160" y="2505240"/>
            <a:ext cx="26654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uk-UA" sz="1800" spc="-1" strike="noStrike">
                <a:solidFill>
                  <a:srgbClr val="000000"/>
                </a:solidFill>
                <a:latin typeface="Monotype Corsiva"/>
              </a:rPr>
              <a:t>обрана членом багатьох професійних та громадських об’єднань: «Український історик», «Спілка архівістів України», «Українське біографічне товариство»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09320" y="1680840"/>
            <a:ext cx="31892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5997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8" name="Содержимое 4" descr="images.jpg"/>
          <p:cNvPicPr/>
          <p:nvPr/>
        </p:nvPicPr>
        <p:blipFill>
          <a:blip r:embed="rId1"/>
          <a:stretch/>
        </p:blipFill>
        <p:spPr>
          <a:xfrm>
            <a:off x="1341360" y="2538360"/>
            <a:ext cx="2390760" cy="36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10000" y="1680840"/>
            <a:ext cx="32065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6642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40" name="Содержимое 5" descr="ВС66427.jpg"/>
          <p:cNvPicPr/>
          <p:nvPr/>
        </p:nvPicPr>
        <p:blipFill>
          <a:blip r:embed="rId2"/>
          <a:stretch/>
        </p:blipFill>
        <p:spPr>
          <a:xfrm>
            <a:off x="5348160" y="2505240"/>
            <a:ext cx="244980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65193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42" name="Содержимое 4" descr="ВС65192.jpg"/>
          <p:cNvPicPr/>
          <p:nvPr/>
        </p:nvPicPr>
        <p:blipFill>
          <a:blip r:embed="rId1"/>
          <a:stretch/>
        </p:blipFill>
        <p:spPr>
          <a:xfrm>
            <a:off x="1274760" y="2505240"/>
            <a:ext cx="257976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87600" y="1680840"/>
            <a:ext cx="33289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6519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44" name="Содержимое 5" descr="ВС65191.jpg"/>
          <p:cNvPicPr/>
          <p:nvPr/>
        </p:nvPicPr>
        <p:blipFill>
          <a:blip r:embed="rId2"/>
          <a:stretch/>
        </p:blipFill>
        <p:spPr>
          <a:xfrm>
            <a:off x="5313240" y="2505240"/>
            <a:ext cx="25196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uk-UA" sz="1600" spc="-1" strike="noStrike">
                <a:solidFill>
                  <a:srgbClr val="000000"/>
                </a:solidFill>
                <a:latin typeface="Monotype Corsiva"/>
              </a:rPr>
              <a:t>член міжнародних комісій: Міжурядової українсько-польської комісії в справі охорони та повернення втрачених і незаконно переміщених під час Другої світової війни культурних цінностей (очолювала групу експертів з питань бібліотек) (1996-2018); Змішаної українсько-німецької комісії з питань повернення та реституції втрачених та незаконно переміщених під час та внаслідок Другої світової війни культурних цінностей (2000-2018)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55160" y="1680840"/>
            <a:ext cx="34419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С6535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47" name="Содержимое 4" descr="Вс 8.jpg"/>
          <p:cNvPicPr/>
          <p:nvPr/>
        </p:nvPicPr>
        <p:blipFill>
          <a:blip r:embed="rId1"/>
          <a:stretch/>
        </p:blipFill>
        <p:spPr>
          <a:xfrm>
            <a:off x="1084320" y="2505240"/>
            <a:ext cx="274932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22880" y="1680840"/>
            <a:ext cx="32940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82641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49" name="Содержимое 5" descr="ВА826412.jpg"/>
          <p:cNvPicPr/>
          <p:nvPr/>
        </p:nvPicPr>
        <p:blipFill>
          <a:blip r:embed="rId2"/>
          <a:stretch/>
        </p:blipFill>
        <p:spPr>
          <a:xfrm>
            <a:off x="5251320" y="2505240"/>
            <a:ext cx="264348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47400" y="1680840"/>
            <a:ext cx="32511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6550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1" name="Содержимое 6" descr="ВС47947.jpg"/>
          <p:cNvPicPr/>
          <p:nvPr/>
        </p:nvPicPr>
        <p:blipFill>
          <a:blip r:embed="rId1"/>
          <a:stretch/>
        </p:blipFill>
        <p:spPr>
          <a:xfrm>
            <a:off x="1262160" y="2505240"/>
            <a:ext cx="260496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284800" y="1680840"/>
            <a:ext cx="3232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357366/1-3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3" name="Содержимое 7" descr="В357366.1-3.jpg"/>
          <p:cNvPicPr/>
          <p:nvPr/>
        </p:nvPicPr>
        <p:blipFill>
          <a:blip r:embed="rId2"/>
          <a:stretch/>
        </p:blipFill>
        <p:spPr>
          <a:xfrm>
            <a:off x="5305320" y="2505240"/>
            <a:ext cx="253548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uk-UA" sz="1800" spc="-1" strike="noStrike">
                <a:solidFill>
                  <a:srgbClr val="000000"/>
                </a:solidFill>
                <a:latin typeface="Monotype Corsiva"/>
              </a:rPr>
              <a:t>експерт архівного напряму ЮНЕСК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90440" y="1680840"/>
            <a:ext cx="34084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357971/1-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6" name="Содержимое 5" descr="er-0003402.jpg"/>
          <p:cNvPicPr/>
          <p:nvPr/>
        </p:nvPicPr>
        <p:blipFill>
          <a:blip r:embed="rId1"/>
          <a:stretch/>
        </p:blipFill>
        <p:spPr>
          <a:xfrm>
            <a:off x="1114560" y="2505240"/>
            <a:ext cx="290016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92720" y="1680840"/>
            <a:ext cx="32241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6710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8" name="Содержимое 4" descr="er-0003589.jpg"/>
          <p:cNvPicPr/>
          <p:nvPr/>
        </p:nvPicPr>
        <p:blipFill>
          <a:blip r:embed="rId2"/>
          <a:stretch/>
        </p:blipFill>
        <p:spPr>
          <a:xfrm>
            <a:off x="5297400" y="2505240"/>
            <a:ext cx="255132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Довідники, покажчики, каталоги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28560" y="341280"/>
            <a:ext cx="7886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1950, 30 вересня — народилася у місті Шадринськ Курганської області, РРФСР, СРСР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1972 — закінчила історико-філологічний факультет Волгоградського державного педагогічного інституту ім. 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О</a:t>
            </a: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. С. Серафимовича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1974—1977 — аспірант сектору феодалізму Інституту історії СРСР АН СРСР.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1982 — здобула вчений ступінь кандидата історичних наук, захистивши дисертацію з теми «Казанський літописець: історико-текстологічне дослідження» (науковий керівник — доктор історичних наук Сергій Каштанов)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1977—1981 — у Марійському науково-дослідному інституті мови, літератури та історії: молодший науковий співробітник, старший науковий співробітник, завідувач сектором історії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1981—1984 — у Київському обласному архіві: археограф, завідувач відділу використання інформації та публікації документів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1984 —  у Національній бібліотеці України імені В. І. Вернадського: старший науковий співробітник, завідувач відділу рукописів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1992—2018 —  директор Інституту рукопису НБУВ.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1993 — здобула вчений ступінь доктора історичних наук, захистивши в Інституті історії України дисертацію з теми «Кодикологія та кодикографія як спеціальні історичні дисципліни в дослідженнях історії української книги»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1996 — отримала наукове звання професора зі спеціальності «Книгознавство, бібліографознавство, бібліотекознавство»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2006 — обрана членом-кореспондентом Національної академії наук України за спеціальністю «Архівознавство, документознавство»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2018, 7 листопада — шляхом таємного голосування членів трудового колективу обрана генеральним директором Національної бібліотеки України імені В. І. Вернадського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284120" y="1680840"/>
            <a:ext cx="32133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Табачник Д.В. ВА37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1" name="Содержимое 6" descr="Табачник ВА371.jpg"/>
          <p:cNvPicPr/>
          <p:nvPr/>
        </p:nvPicPr>
        <p:blipFill>
          <a:blip r:embed="rId1"/>
          <a:stretch/>
        </p:blipFill>
        <p:spPr>
          <a:xfrm>
            <a:off x="1322280" y="2505240"/>
            <a:ext cx="248472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257440" y="1680840"/>
            <a:ext cx="3259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76678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3" name="Содержимое 7" descr="ВА766781.jpg"/>
          <p:cNvPicPr/>
          <p:nvPr/>
        </p:nvPicPr>
        <p:blipFill>
          <a:blip r:embed="rId2"/>
          <a:stretch/>
        </p:blipFill>
        <p:spPr>
          <a:xfrm>
            <a:off x="5253120" y="2505240"/>
            <a:ext cx="263988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230120" y="1680840"/>
            <a:ext cx="32670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340529/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266800" y="1680840"/>
            <a:ext cx="32497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33993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6" name="Содержимое 5" descr="ВС33993.jpg"/>
          <p:cNvPicPr/>
          <p:nvPr/>
        </p:nvPicPr>
        <p:blipFill>
          <a:blip r:embed="rId1"/>
          <a:stretch/>
        </p:blipFill>
        <p:spPr>
          <a:xfrm>
            <a:off x="5272200" y="2505240"/>
            <a:ext cx="260172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7" name="Picture 2" descr="C:\Documents and Settings\prokoshina\Мои документы\Мои рисунки\библиотека\2018-06-06-0015.jpg"/>
          <p:cNvPicPr/>
          <p:nvPr/>
        </p:nvPicPr>
        <p:blipFill>
          <a:blip r:embed="rId2"/>
          <a:stretch/>
        </p:blipFill>
        <p:spPr>
          <a:xfrm>
            <a:off x="1249200" y="2505240"/>
            <a:ext cx="263052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125000" y="1680840"/>
            <a:ext cx="3373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А58546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9" name="Содержимое 4" descr="ir022.JPG"/>
          <p:cNvPicPr/>
          <p:nvPr/>
        </p:nvPicPr>
        <p:blipFill>
          <a:blip r:embed="rId1"/>
          <a:stretch/>
        </p:blipFill>
        <p:spPr>
          <a:xfrm>
            <a:off x="1289160" y="2470320"/>
            <a:ext cx="2597040" cy="362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22880" y="1680840"/>
            <a:ext cx="32940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А58555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1" name="Содержимое 5" descr="5-7702-0849-РҐ.jpg"/>
          <p:cNvPicPr/>
          <p:nvPr/>
        </p:nvPicPr>
        <p:blipFill>
          <a:blip r:embed="rId2"/>
          <a:stretch/>
        </p:blipFill>
        <p:spPr>
          <a:xfrm>
            <a:off x="5259240" y="2505240"/>
            <a:ext cx="26276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32040" y="1680840"/>
            <a:ext cx="35668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  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С5163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3" name="Содержимое 10" descr="ukr0001587.jpg"/>
          <p:cNvPicPr/>
          <p:nvPr/>
        </p:nvPicPr>
        <p:blipFill>
          <a:blip r:embed="rId1"/>
          <a:stretch/>
        </p:blipFill>
        <p:spPr>
          <a:xfrm>
            <a:off x="1173240" y="2462040"/>
            <a:ext cx="2663640" cy="368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222880" y="1680840"/>
            <a:ext cx="32940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Р8755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5" name="Содержимое 13" descr="Р87551.jpg"/>
          <p:cNvPicPr/>
          <p:nvPr/>
        </p:nvPicPr>
        <p:blipFill>
          <a:blip r:embed="rId2"/>
          <a:stretch/>
        </p:blipFill>
        <p:spPr>
          <a:xfrm>
            <a:off x="5240160" y="2505240"/>
            <a:ext cx="26654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115640" y="1680840"/>
            <a:ext cx="33814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3520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7" name="Содержимое 6" descr="ВС35204.jpg"/>
          <p:cNvPicPr/>
          <p:nvPr/>
        </p:nvPicPr>
        <p:blipFill>
          <a:blip r:embed="rId1"/>
          <a:stretch/>
        </p:blipFill>
        <p:spPr>
          <a:xfrm>
            <a:off x="1133640" y="2487600"/>
            <a:ext cx="249228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02080" y="1680840"/>
            <a:ext cx="32148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Онищенко О.С. СО36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9" name="Содержимое 7" descr="Онищенко СО36.jpg"/>
          <p:cNvPicPr/>
          <p:nvPr/>
        </p:nvPicPr>
        <p:blipFill>
          <a:blip r:embed="rId2"/>
          <a:stretch/>
        </p:blipFill>
        <p:spPr>
          <a:xfrm>
            <a:off x="5292720" y="2505240"/>
            <a:ext cx="256068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143000" y="1680840"/>
            <a:ext cx="33559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59484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81" name="Содержимое 4" descr="ВА594840.jpg"/>
          <p:cNvPicPr/>
          <p:nvPr/>
        </p:nvPicPr>
        <p:blipFill>
          <a:blip r:embed="rId1"/>
          <a:stretch/>
        </p:blipFill>
        <p:spPr>
          <a:xfrm>
            <a:off x="1165320" y="2505240"/>
            <a:ext cx="27986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60960" y="1680840"/>
            <a:ext cx="33559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С3727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83" name="Содержимое 7" descr="unnamed (1).jpg"/>
          <p:cNvPicPr/>
          <p:nvPr/>
        </p:nvPicPr>
        <p:blipFill>
          <a:blip r:embed="rId2"/>
          <a:stretch/>
        </p:blipFill>
        <p:spPr>
          <a:xfrm>
            <a:off x="5191200" y="2505240"/>
            <a:ext cx="276372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160280" y="1680840"/>
            <a:ext cx="33368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Онищенко О.С. ВС8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85" name="Содержимое 6" descr="Онищенко ВС84.jpg"/>
          <p:cNvPicPr/>
          <p:nvPr/>
        </p:nvPicPr>
        <p:blipFill>
          <a:blip r:embed="rId1"/>
          <a:stretch/>
        </p:blipFill>
        <p:spPr>
          <a:xfrm>
            <a:off x="1193760" y="2505240"/>
            <a:ext cx="274176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28880" y="2189160"/>
            <a:ext cx="388764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Monotype Corsiva"/>
              </a:rPr>
              <a:t>Відділ музичних фондів. 23 березня 2012 р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87" name="Содержимое 7" descr="108.JPG"/>
          <p:cNvPicPr/>
          <p:nvPr/>
        </p:nvPicPr>
        <p:blipFill>
          <a:blip r:embed="rId2"/>
          <a:stretch/>
        </p:blipFill>
        <p:spPr>
          <a:xfrm>
            <a:off x="4629240" y="2948040"/>
            <a:ext cx="3887640" cy="279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274760" y="1680840"/>
            <a:ext cx="32227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347376/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89" name="Содержимое 4" descr="В347376.2.jpg"/>
          <p:cNvPicPr/>
          <p:nvPr/>
        </p:nvPicPr>
        <p:blipFill>
          <a:blip r:embed="rId1"/>
          <a:stretch/>
        </p:blipFill>
        <p:spPr>
          <a:xfrm>
            <a:off x="1265400" y="2505240"/>
            <a:ext cx="259848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10000" y="1680840"/>
            <a:ext cx="32065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39705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91" name="Содержимое 7" descr="ВС39705.jpg"/>
          <p:cNvPicPr/>
          <p:nvPr/>
        </p:nvPicPr>
        <p:blipFill>
          <a:blip r:embed="rId2"/>
          <a:stretch/>
        </p:blipFill>
        <p:spPr>
          <a:xfrm>
            <a:off x="5275440" y="2487600"/>
            <a:ext cx="25430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47400" y="1680840"/>
            <a:ext cx="32511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3969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93" name="Содержимое 6" descr="ВС39694.jpg"/>
          <p:cNvPicPr/>
          <p:nvPr/>
        </p:nvPicPr>
        <p:blipFill>
          <a:blip r:embed="rId1"/>
          <a:stretch/>
        </p:blipFill>
        <p:spPr>
          <a:xfrm>
            <a:off x="1244520" y="2505240"/>
            <a:ext cx="26402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04880" y="1680840"/>
            <a:ext cx="3311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65492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95" name="Содержимое 7" descr="ВА654924.jpg"/>
          <p:cNvPicPr/>
          <p:nvPr/>
        </p:nvPicPr>
        <p:blipFill>
          <a:blip r:embed="rId2"/>
          <a:stretch/>
        </p:blipFill>
        <p:spPr>
          <a:xfrm>
            <a:off x="5221440" y="2505240"/>
            <a:ext cx="27032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204920" y="1680840"/>
            <a:ext cx="32940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Онищенко О.С. ВС59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97" name="Содержимое 4" descr="Онищенко ВС59.jpg"/>
          <p:cNvPicPr/>
          <p:nvPr/>
        </p:nvPicPr>
        <p:blipFill>
          <a:blip r:embed="rId1"/>
          <a:stretch/>
        </p:blipFill>
        <p:spPr>
          <a:xfrm>
            <a:off x="1211400" y="2505240"/>
            <a:ext cx="270648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284800" y="1680840"/>
            <a:ext cx="3232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46586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99" name="Содержимое 5" descr="ВС46586.jpg"/>
          <p:cNvPicPr/>
          <p:nvPr/>
        </p:nvPicPr>
        <p:blipFill>
          <a:blip r:embed="rId2"/>
          <a:stretch/>
        </p:blipFill>
        <p:spPr>
          <a:xfrm>
            <a:off x="5295960" y="2505240"/>
            <a:ext cx="255420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Монографії, брошури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257480" y="1680840"/>
            <a:ext cx="32414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350988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01" name="Содержимое 6" descr="В350988.4.jpg"/>
          <p:cNvPicPr/>
          <p:nvPr/>
        </p:nvPicPr>
        <p:blipFill>
          <a:blip r:embed="rId1"/>
          <a:stretch/>
        </p:blipFill>
        <p:spPr>
          <a:xfrm>
            <a:off x="1271520" y="2505240"/>
            <a:ext cx="25862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240160" y="1731960"/>
            <a:ext cx="32594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9000"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3133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03" name="Содержимое 4" descr="СО31332.jpg"/>
          <p:cNvPicPr/>
          <p:nvPr/>
        </p:nvPicPr>
        <p:blipFill>
          <a:blip r:embed="rId2"/>
          <a:stretch/>
        </p:blipFill>
        <p:spPr>
          <a:xfrm>
            <a:off x="5272200" y="2505240"/>
            <a:ext cx="260172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152360" y="1758600"/>
            <a:ext cx="334656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56148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125680" y="1680840"/>
            <a:ext cx="33908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  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353924/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06" name="Содержимое 8" descr="er-0002191.jpg"/>
          <p:cNvPicPr/>
          <p:nvPr/>
        </p:nvPicPr>
        <p:blipFill>
          <a:blip r:embed="rId1"/>
          <a:stretch/>
        </p:blipFill>
        <p:spPr>
          <a:xfrm>
            <a:off x="5375160" y="2505240"/>
            <a:ext cx="25466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7" name="Содержимое 6" descr="ВС56148.jpg"/>
          <p:cNvPicPr/>
          <p:nvPr/>
        </p:nvPicPr>
        <p:blipFill>
          <a:blip r:embed="rId2"/>
          <a:stretch/>
        </p:blipFill>
        <p:spPr>
          <a:xfrm>
            <a:off x="1241280" y="2506680"/>
            <a:ext cx="2646360" cy="368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266840" y="1680840"/>
            <a:ext cx="3232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СО31769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09" name="Содержимое 6" descr="СО31769.jpg"/>
          <p:cNvPicPr/>
          <p:nvPr/>
        </p:nvPicPr>
        <p:blipFill>
          <a:blip r:embed="rId1"/>
          <a:stretch/>
        </p:blipFill>
        <p:spPr>
          <a:xfrm>
            <a:off x="1270080" y="2505240"/>
            <a:ext cx="258912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75319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11" name="Содержимое 7" descr="ВА753197.jpg"/>
          <p:cNvPicPr/>
          <p:nvPr/>
        </p:nvPicPr>
        <p:blipFill>
          <a:blip r:embed="rId2"/>
          <a:stretch/>
        </p:blipFill>
        <p:spPr>
          <a:xfrm>
            <a:off x="5264280" y="2505240"/>
            <a:ext cx="261756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274760" y="1680840"/>
            <a:ext cx="32227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766473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230800" y="1680840"/>
            <a:ext cx="3286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56789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14" name="Содержимое 7" descr="ВС56789.jpg"/>
          <p:cNvPicPr/>
          <p:nvPr/>
        </p:nvPicPr>
        <p:blipFill>
          <a:blip r:embed="rId1"/>
          <a:stretch/>
        </p:blipFill>
        <p:spPr>
          <a:xfrm>
            <a:off x="5248440" y="2505240"/>
            <a:ext cx="26492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5" name="Содержимое 4" descr="ВА766473.jpg"/>
          <p:cNvPicPr/>
          <p:nvPr/>
        </p:nvPicPr>
        <p:blipFill>
          <a:blip r:embed="rId2"/>
          <a:stretch/>
        </p:blipFill>
        <p:spPr>
          <a:xfrm>
            <a:off x="1292400" y="2505240"/>
            <a:ext cx="254448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230120" y="1680840"/>
            <a:ext cx="32670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77112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17" name="Содержимое 6" descr="ВА771121.jpg"/>
          <p:cNvPicPr/>
          <p:nvPr/>
        </p:nvPicPr>
        <p:blipFill>
          <a:blip r:embed="rId1"/>
          <a:stretch/>
        </p:blipFill>
        <p:spPr>
          <a:xfrm>
            <a:off x="1225440" y="2505240"/>
            <a:ext cx="267840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3120" y="1353960"/>
            <a:ext cx="3603960" cy="142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7 грудня 2018 року .в Національний академічний театріопери та балету України імені Т.Г. Шевченка .Ювілейна сесія Загальних зборів Національної академії наук України, присвячена 100-річчю НАН України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19" name="Picture 2" descr="E:\Мои рисунки\музей1\нбув\дубровина_л\фото2.jpg"/>
          <p:cNvPicPr/>
          <p:nvPr/>
        </p:nvPicPr>
        <p:blipFill>
          <a:blip r:embed="rId2"/>
          <a:stretch/>
        </p:blipFill>
        <p:spPr>
          <a:xfrm>
            <a:off x="5202360" y="2505240"/>
            <a:ext cx="274140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284120" y="1680840"/>
            <a:ext cx="32133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5873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21" name="Содержимое 6" descr="ВС58732.jpg"/>
          <p:cNvPicPr/>
          <p:nvPr/>
        </p:nvPicPr>
        <p:blipFill>
          <a:blip r:embed="rId1"/>
          <a:stretch/>
        </p:blipFill>
        <p:spPr>
          <a:xfrm>
            <a:off x="1303200" y="2505240"/>
            <a:ext cx="252252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222880" y="1680840"/>
            <a:ext cx="32940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5893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23" name="Содержимое 7" descr="ВС58937.jpg"/>
          <p:cNvPicPr/>
          <p:nvPr/>
        </p:nvPicPr>
        <p:blipFill>
          <a:blip r:embed="rId2"/>
          <a:stretch/>
        </p:blipFill>
        <p:spPr>
          <a:xfrm>
            <a:off x="5268960" y="2505240"/>
            <a:ext cx="260820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301400" y="1680840"/>
            <a:ext cx="31971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5835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25" name="Содержимое 6" descr="ВС58350.jpg"/>
          <p:cNvPicPr/>
          <p:nvPr/>
        </p:nvPicPr>
        <p:blipFill>
          <a:blip r:embed="rId1"/>
          <a:stretch/>
        </p:blipFill>
        <p:spPr>
          <a:xfrm>
            <a:off x="1293840" y="2505240"/>
            <a:ext cx="254160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275440" y="1680840"/>
            <a:ext cx="32414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5787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27" name="Содержимое 10" descr="ВС57874.jpg"/>
          <p:cNvPicPr/>
          <p:nvPr/>
        </p:nvPicPr>
        <p:blipFill>
          <a:blip r:embed="rId2"/>
          <a:stretch/>
        </p:blipFill>
        <p:spPr>
          <a:xfrm>
            <a:off x="5280120" y="2506680"/>
            <a:ext cx="2585880" cy="368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247400" y="1680840"/>
            <a:ext cx="32511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60788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284800" y="1680840"/>
            <a:ext cx="3232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60783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30" name="Содержимое 5" descr="ВС60788.jpg"/>
          <p:cNvPicPr/>
          <p:nvPr/>
        </p:nvPicPr>
        <p:blipFill>
          <a:blip r:embed="rId1"/>
          <a:stretch/>
        </p:blipFill>
        <p:spPr>
          <a:xfrm>
            <a:off x="1271520" y="2505240"/>
            <a:ext cx="25862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1" name="Содержимое 9" descr="ВС60783.jpg"/>
          <p:cNvPicPr/>
          <p:nvPr/>
        </p:nvPicPr>
        <p:blipFill>
          <a:blip r:embed="rId2"/>
          <a:stretch/>
        </p:blipFill>
        <p:spPr>
          <a:xfrm>
            <a:off x="5284800" y="2506680"/>
            <a:ext cx="2576520" cy="368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204920" y="1680840"/>
            <a:ext cx="32940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6250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284800" y="1680840"/>
            <a:ext cx="3232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802569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34" name="Содержимое 6" descr="ВС62502.jpg"/>
          <p:cNvPicPr/>
          <p:nvPr/>
        </p:nvPicPr>
        <p:blipFill>
          <a:blip r:embed="rId1"/>
          <a:stretch/>
        </p:blipFill>
        <p:spPr>
          <a:xfrm>
            <a:off x="1230480" y="2506680"/>
            <a:ext cx="2668320" cy="368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5" name="Содержимое 6" descr="ВА802569.jpg"/>
          <p:cNvPicPr/>
          <p:nvPr/>
        </p:nvPicPr>
        <p:blipFill>
          <a:blip r:embed="rId2"/>
          <a:stretch/>
        </p:blipFill>
        <p:spPr>
          <a:xfrm>
            <a:off x="5267160" y="2506680"/>
            <a:ext cx="2611440" cy="368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230120" y="1680840"/>
            <a:ext cx="32670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СО3412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37" name="Содержимое 6" descr="СО34122.jpg"/>
          <p:cNvPicPr/>
          <p:nvPr/>
        </p:nvPicPr>
        <p:blipFill>
          <a:blip r:embed="rId1"/>
          <a:stretch/>
        </p:blipFill>
        <p:spPr>
          <a:xfrm>
            <a:off x="1258920" y="2505240"/>
            <a:ext cx="26114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266800" y="1680840"/>
            <a:ext cx="32497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6078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39" name="Содержимое 7" descr="ВС60784.jpg"/>
          <p:cNvPicPr/>
          <p:nvPr/>
        </p:nvPicPr>
        <p:blipFill>
          <a:blip r:embed="rId2"/>
          <a:stretch/>
        </p:blipFill>
        <p:spPr>
          <a:xfrm>
            <a:off x="5288040" y="2505240"/>
            <a:ext cx="25700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Monotype Corsiva"/>
              </a:rPr>
              <a:t>Член-кореспондент НАН України Любов Дубровіна: 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Monotype Corsiva"/>
              </a:rPr>
              <a:t> • є фундатором української кодикологічної школи; науковим керівником та консультантом майже 50 докторських та кандидатських дисертацій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95560" y="1680840"/>
            <a:ext cx="33033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499565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2" name="Содержимое 4" descr="ВА499565.jpg"/>
          <p:cNvPicPr/>
          <p:nvPr/>
        </p:nvPicPr>
        <p:blipFill>
          <a:blip r:embed="rId1"/>
          <a:stretch/>
        </p:blipFill>
        <p:spPr>
          <a:xfrm>
            <a:off x="1219320" y="2505240"/>
            <a:ext cx="26906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04880" y="1680840"/>
            <a:ext cx="3311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55391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4" name="Содержимое 10" descr="ВА553917.jpg"/>
          <p:cNvPicPr/>
          <p:nvPr/>
        </p:nvPicPr>
        <p:blipFill>
          <a:blip r:embed="rId2"/>
          <a:stretch/>
        </p:blipFill>
        <p:spPr>
          <a:xfrm>
            <a:off x="5249880" y="2505240"/>
            <a:ext cx="264636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230120" y="1680840"/>
            <a:ext cx="32670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806943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41" name="Содержимое 6" descr="ВА806943.jpg"/>
          <p:cNvPicPr/>
          <p:nvPr/>
        </p:nvPicPr>
        <p:blipFill>
          <a:blip r:embed="rId1"/>
          <a:stretch/>
        </p:blipFill>
        <p:spPr>
          <a:xfrm>
            <a:off x="1209600" y="2505240"/>
            <a:ext cx="271008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266800" y="1680840"/>
            <a:ext cx="32497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355461/1-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43" name="Содержимое 7" descr="В355461.1-2.jpg"/>
          <p:cNvPicPr/>
          <p:nvPr/>
        </p:nvPicPr>
        <p:blipFill>
          <a:blip r:embed="rId2"/>
          <a:stretch/>
        </p:blipFill>
        <p:spPr>
          <a:xfrm>
            <a:off x="5283360" y="2505240"/>
            <a:ext cx="257940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222200" y="1680840"/>
            <a:ext cx="32752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81207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45" name="Содержимое 6" descr="ВА812070.jpg"/>
          <p:cNvPicPr/>
          <p:nvPr/>
        </p:nvPicPr>
        <p:blipFill>
          <a:blip r:embed="rId1"/>
          <a:stretch/>
        </p:blipFill>
        <p:spPr>
          <a:xfrm>
            <a:off x="1217520" y="2505240"/>
            <a:ext cx="264168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257440" y="1680840"/>
            <a:ext cx="3259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802278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47" name="Содержимое 7" descr="ВА802278.jpg"/>
          <p:cNvPicPr/>
          <p:nvPr/>
        </p:nvPicPr>
        <p:blipFill>
          <a:blip r:embed="rId2"/>
          <a:stretch/>
        </p:blipFill>
        <p:spPr>
          <a:xfrm>
            <a:off x="5248440" y="2505240"/>
            <a:ext cx="26492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257480" y="1680840"/>
            <a:ext cx="32414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80557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230800" y="1680840"/>
            <a:ext cx="3286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81208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50" name="Содержимое 9" descr="ВА805571.jpg"/>
          <p:cNvPicPr/>
          <p:nvPr/>
        </p:nvPicPr>
        <p:blipFill>
          <a:blip r:embed="rId1"/>
          <a:stretch/>
        </p:blipFill>
        <p:spPr>
          <a:xfrm>
            <a:off x="1268280" y="2505240"/>
            <a:ext cx="259236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1" name="Содержимое 6" descr="ВА812080.jpg"/>
          <p:cNvPicPr/>
          <p:nvPr/>
        </p:nvPicPr>
        <p:blipFill>
          <a:blip r:embed="rId2"/>
          <a:stretch/>
        </p:blipFill>
        <p:spPr>
          <a:xfrm>
            <a:off x="5229360" y="2505240"/>
            <a:ext cx="268740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257480" y="1680840"/>
            <a:ext cx="32414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64088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248080" y="1680840"/>
            <a:ext cx="32684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0000"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6454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54" name="Содержимое 9" descr="ВС64088.jpg"/>
          <p:cNvPicPr/>
          <p:nvPr/>
        </p:nvPicPr>
        <p:blipFill>
          <a:blip r:embed="rId1"/>
          <a:stretch/>
        </p:blipFill>
        <p:spPr>
          <a:xfrm>
            <a:off x="1251000" y="2505240"/>
            <a:ext cx="262728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5" name="Содержимое 6" descr="ВС64540.jpg"/>
          <p:cNvPicPr/>
          <p:nvPr/>
        </p:nvPicPr>
        <p:blipFill>
          <a:blip r:embed="rId2"/>
          <a:stretch/>
        </p:blipFill>
        <p:spPr>
          <a:xfrm>
            <a:off x="5241960" y="2505240"/>
            <a:ext cx="266220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247400" y="1680840"/>
            <a:ext cx="32511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81572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57" name="Содержимое 6" descr="ВА815721.jpg"/>
          <p:cNvPicPr/>
          <p:nvPr/>
        </p:nvPicPr>
        <p:blipFill>
          <a:blip r:embed="rId1"/>
          <a:stretch/>
        </p:blipFill>
        <p:spPr>
          <a:xfrm>
            <a:off x="1270080" y="2505240"/>
            <a:ext cx="258912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230800" y="1680840"/>
            <a:ext cx="3286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621163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59" name="Содержимое 5" descr="ВА621163.jpg"/>
          <p:cNvPicPr/>
          <p:nvPr/>
        </p:nvPicPr>
        <p:blipFill>
          <a:blip r:embed="rId2"/>
          <a:stretch/>
        </p:blipFill>
        <p:spPr>
          <a:xfrm>
            <a:off x="5246640" y="2505240"/>
            <a:ext cx="26528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257480" y="1680840"/>
            <a:ext cx="32414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59153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61" name="Содержимое 7" descr="ВС59153.jpg"/>
          <p:cNvPicPr/>
          <p:nvPr/>
        </p:nvPicPr>
        <p:blipFill>
          <a:blip r:embed="rId1"/>
          <a:stretch/>
        </p:blipFill>
        <p:spPr>
          <a:xfrm>
            <a:off x="1273320" y="2505240"/>
            <a:ext cx="25826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284800" y="1680840"/>
            <a:ext cx="3232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6465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63" name="Содержимое 6" descr="ВС64650.jpg"/>
          <p:cNvPicPr/>
          <p:nvPr/>
        </p:nvPicPr>
        <p:blipFill>
          <a:blip r:embed="rId2"/>
          <a:stretch/>
        </p:blipFill>
        <p:spPr>
          <a:xfrm>
            <a:off x="5283360" y="2505240"/>
            <a:ext cx="257940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266840" y="1680840"/>
            <a:ext cx="3232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66483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65" name="Содержимое 4" descr="ВС66483.jpg"/>
          <p:cNvPicPr/>
          <p:nvPr/>
        </p:nvPicPr>
        <p:blipFill>
          <a:blip r:embed="rId1"/>
          <a:stretch/>
        </p:blipFill>
        <p:spPr>
          <a:xfrm>
            <a:off x="1268280" y="2505240"/>
            <a:ext cx="259236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213520" y="1680840"/>
            <a:ext cx="33033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6678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67" name="Содержимое 9" descr="ВС66784.jpg"/>
          <p:cNvPicPr/>
          <p:nvPr/>
        </p:nvPicPr>
        <p:blipFill>
          <a:blip r:embed="rId2"/>
          <a:stretch/>
        </p:blipFill>
        <p:spPr>
          <a:xfrm>
            <a:off x="5241960" y="2505240"/>
            <a:ext cx="266220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204920" y="1680840"/>
            <a:ext cx="32940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357757/1-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69" name="Содержимое 9" descr="В357757.1.1.jpg"/>
          <p:cNvPicPr/>
          <p:nvPr/>
        </p:nvPicPr>
        <p:blipFill>
          <a:blip r:embed="rId1"/>
          <a:stretch/>
        </p:blipFill>
        <p:spPr>
          <a:xfrm>
            <a:off x="1200240" y="2505240"/>
            <a:ext cx="272880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213520" y="1680840"/>
            <a:ext cx="33033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6651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71" name="Содержимое 10" descr="ВС66514.jpg"/>
          <p:cNvPicPr/>
          <p:nvPr/>
        </p:nvPicPr>
        <p:blipFill>
          <a:blip r:embed="rId2"/>
          <a:stretch/>
        </p:blipFill>
        <p:spPr>
          <a:xfrm>
            <a:off x="5227560" y="2505240"/>
            <a:ext cx="269100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Науково-методичні матеріали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266840" y="1680840"/>
            <a:ext cx="3232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6355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74" name="Содержимое 6" descr="ВС63552.jpg"/>
          <p:cNvPicPr/>
          <p:nvPr/>
        </p:nvPicPr>
        <p:blipFill>
          <a:blip r:embed="rId1"/>
          <a:stretch/>
        </p:blipFill>
        <p:spPr>
          <a:xfrm>
            <a:off x="1273320" y="2505240"/>
            <a:ext cx="25826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222880" y="1680840"/>
            <a:ext cx="32940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Табачник Д.В. ВА186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76" name="Содержимое 9" descr="Табачник ВА186.jpg"/>
          <p:cNvPicPr/>
          <p:nvPr/>
        </p:nvPicPr>
        <p:blipFill>
          <a:blip r:embed="rId2"/>
          <a:stretch/>
        </p:blipFill>
        <p:spPr>
          <a:xfrm>
            <a:off x="5238720" y="2505240"/>
            <a:ext cx="266868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5080" y="37476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7560" y="1680840"/>
            <a:ext cx="3319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8000"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29523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13520" y="1680840"/>
            <a:ext cx="33033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РА28145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8" name="Содержимое 7" descr="РА281457.jpg"/>
          <p:cNvPicPr/>
          <p:nvPr/>
        </p:nvPicPr>
        <p:blipFill>
          <a:blip r:embed="rId1"/>
          <a:stretch/>
        </p:blipFill>
        <p:spPr>
          <a:xfrm>
            <a:off x="5240160" y="2505240"/>
            <a:ext cx="26654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Содержимое 5" descr="ВС29523.jpg"/>
          <p:cNvPicPr/>
          <p:nvPr/>
        </p:nvPicPr>
        <p:blipFill>
          <a:blip r:embed="rId2"/>
          <a:stretch/>
        </p:blipFill>
        <p:spPr>
          <a:xfrm>
            <a:off x="1208160" y="2505240"/>
            <a:ext cx="271296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309320" y="1680840"/>
            <a:ext cx="31892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Онищенко О.С. ВА41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78" name="Содержимое 4" descr="Онищенко ВА411.jpg"/>
          <p:cNvPicPr/>
          <p:nvPr/>
        </p:nvPicPr>
        <p:blipFill>
          <a:blip r:embed="rId1"/>
          <a:stretch/>
        </p:blipFill>
        <p:spPr>
          <a:xfrm>
            <a:off x="1317600" y="2505240"/>
            <a:ext cx="249408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292720" y="1680840"/>
            <a:ext cx="32241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Р77688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80" name="Содержимое 9" descr="Р77687.jpg"/>
          <p:cNvPicPr/>
          <p:nvPr/>
        </p:nvPicPr>
        <p:blipFill>
          <a:blip r:embed="rId2"/>
          <a:stretch/>
        </p:blipFill>
        <p:spPr>
          <a:xfrm>
            <a:off x="5283360" y="2505240"/>
            <a:ext cx="257940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Підручники та посібники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292040" y="1680840"/>
            <a:ext cx="3205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628698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240160" y="1680840"/>
            <a:ext cx="32767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58477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84" name="Содержимое 5" descr="ВА584770.jpg"/>
          <p:cNvPicPr/>
          <p:nvPr/>
        </p:nvPicPr>
        <p:blipFill>
          <a:blip r:embed="rId1"/>
          <a:stretch/>
        </p:blipFill>
        <p:spPr>
          <a:xfrm>
            <a:off x="5213520" y="2505240"/>
            <a:ext cx="271908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5" name="Содержимое 6" descr="ВА628698.jpg"/>
          <p:cNvPicPr/>
          <p:nvPr/>
        </p:nvPicPr>
        <p:blipFill>
          <a:blip r:embed="rId2"/>
          <a:stretch/>
        </p:blipFill>
        <p:spPr>
          <a:xfrm>
            <a:off x="1303200" y="2505240"/>
            <a:ext cx="252252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1092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Monotype Corsiva"/>
              </a:rPr>
              <a:t>Періодичні видання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1600" spc="-1" strike="noStrike">
                <a:solidFill>
                  <a:srgbClr val="000000"/>
                </a:solidFill>
                <a:latin typeface="Monotype Corsiva"/>
              </a:rPr>
              <a:t> • </a:t>
            </a:r>
            <a:r>
              <a:rPr b="1" lang="uk-UA" sz="1800" spc="-1" strike="noStrike">
                <a:solidFill>
                  <a:srgbClr val="000000"/>
                </a:solidFill>
                <a:latin typeface="Monotype Corsiva"/>
              </a:rPr>
              <a:t>є засновником та відповідальним редактором періодичного збірника наукових праць «Рукописна та книжкова спадщина України» (з 1993), заступником головного редактора журналу «Бібліотечний вісник» та часопису «Наукові праці НБУВ», членом редколегій збірок «Студії з архівної справи та документознавства», «Український археографічний щорічник»;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04920" y="1680840"/>
            <a:ext cx="32940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Ж68592.1.1993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89" name="Содержимое 7" descr="Ж68592.jpg"/>
          <p:cNvPicPr/>
          <p:nvPr/>
        </p:nvPicPr>
        <p:blipFill>
          <a:blip r:embed="rId1"/>
          <a:stretch/>
        </p:blipFill>
        <p:spPr>
          <a:xfrm>
            <a:off x="1217520" y="2505240"/>
            <a:ext cx="26942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48080" y="1680840"/>
            <a:ext cx="32684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91" name="Содержимое 8" descr="2018-05-30-0001.jpg"/>
          <p:cNvPicPr/>
          <p:nvPr/>
        </p:nvPicPr>
        <p:blipFill>
          <a:blip r:embed="rId2"/>
          <a:stretch/>
        </p:blipFill>
        <p:spPr>
          <a:xfrm>
            <a:off x="5259240" y="2505240"/>
            <a:ext cx="262764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204920" y="1680840"/>
            <a:ext cx="32940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Ж14595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3680" y="1680840"/>
            <a:ext cx="33732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Ж69076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94" name="Содержимое 7" descr="studii_2005_13.jpg"/>
          <p:cNvPicPr/>
          <p:nvPr/>
        </p:nvPicPr>
        <p:blipFill>
          <a:blip r:embed="rId1"/>
          <a:stretch/>
        </p:blipFill>
        <p:spPr>
          <a:xfrm>
            <a:off x="5133960" y="2470320"/>
            <a:ext cx="2822760" cy="376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5" name="Picture 4" descr="Scan-130724-0003"/>
          <p:cNvPicPr/>
          <p:nvPr/>
        </p:nvPicPr>
        <p:blipFill>
          <a:blip r:embed="rId2"/>
          <a:stretch/>
        </p:blipFill>
        <p:spPr>
          <a:xfrm>
            <a:off x="1233360" y="2505240"/>
            <a:ext cx="266220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266840" y="1680840"/>
            <a:ext cx="3232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Ж68536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97" name="Содержимое 6" descr="УАЩ.jpg"/>
          <p:cNvPicPr/>
          <p:nvPr/>
        </p:nvPicPr>
        <p:blipFill>
          <a:blip r:embed="rId1"/>
          <a:stretch/>
        </p:blipFill>
        <p:spPr>
          <a:xfrm>
            <a:off x="1287360" y="2505240"/>
            <a:ext cx="255456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187600" y="1680840"/>
            <a:ext cx="33289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Міжнародна наукова конференція "Слов'янство і національно-культурні процеси </a:t>
            </a:r>
            <a:r>
              <a:rPr b="1" lang="en-US" sz="1400" spc="-1" strike="noStrike">
                <a:solidFill>
                  <a:srgbClr val="000000"/>
                </a:solidFill>
                <a:latin typeface="Monotype Corsiva"/>
              </a:rPr>
              <a:t>XXI 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століття". 24-25 травня 2006 року 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99" name="Picture 2" descr="E:\Мои рисунки\музей1\нбув\дубровина_л\dubrov.jpg"/>
          <p:cNvPicPr/>
          <p:nvPr/>
        </p:nvPicPr>
        <p:blipFill>
          <a:blip r:embed="rId2"/>
          <a:stretch/>
        </p:blipFill>
        <p:spPr>
          <a:xfrm>
            <a:off x="5276880" y="2505240"/>
            <a:ext cx="259236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Monotype Corsiva"/>
              </a:rPr>
              <a:t>Нагороди та відзнаки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18840" y="1807920"/>
            <a:ext cx="7886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Monotype Corsiva"/>
              </a:rPr>
              <a:t>Відзнаки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•</a:t>
            </a: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Орден «За заслуги» III ступеня (2020)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•</a:t>
            </a: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Заслужений діяч науки і техніки України (2004)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•</a:t>
            </a: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Премія Державного комітету архівів України ім. Василя Веретеннікова (2000)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Орден Преподобного Нестора Літописця ІІІ ступеня (2008)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•  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Орден Святої великомучениці Варвари (2017)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Monotype Corsiva"/>
              </a:rPr>
              <a:t>Відзнаки НАН України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«За професійні здобутки» (2015)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«За підготовку наукової зміни» (2010)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•</a:t>
            </a: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Премія НАН України за найкращі історичні дослідження, присвячені вивченню подій німецько-радянської війни 1941–1945 (2005)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•</a:t>
            </a: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Премія НАН України ім. Миколи Костомарова (1996)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Monotype Corsiva"/>
              </a:rPr>
              <a:t>Почесні званн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«Жінка успіху» Американського біографічного центру (2000).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uk-UA" sz="1400" spc="-1" strike="noStrike">
                <a:solidFill>
                  <a:srgbClr val="000000"/>
                </a:solidFill>
                <a:latin typeface="Monotype Corsiva"/>
              </a:rPr>
              <a:t>«Жінка 1992 року» Міжнародного біографічного центру у Кембріджі (Велика Британія)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marL="200880" indent="-200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28560" y="4888080"/>
            <a:ext cx="7886880" cy="12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185040" indent="-185040" algn="r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185040" indent="-185040" algn="r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Національна бібліотека України ім. В. І. Вернадського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185040" indent="-185040" algn="r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Відділ соціокультурної діяльності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185040" indent="-185040">
              <a:lnSpc>
                <a:spcPct val="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185040" indent="-185040" algn="r">
              <a:lnSpc>
                <a:spcPct val="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і права захищені ©  ВСКД НБУВ Гол.біб-р І.А.Прокошина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185040" indent="-1850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uk-UA" sz="1800" spc="-1" strike="noStrike">
                <a:solidFill>
                  <a:srgbClr val="000000"/>
                </a:solidFill>
                <a:latin typeface="Monotype Corsiva"/>
              </a:rPr>
              <a:t>займається розробкою методології та методів архівознавства, історичного документознавства, кодикології та кодикографії, камеральної та едиційної археографії, історичного книгознавства;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9480" y="1680840"/>
            <a:ext cx="325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С2972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2" name="Содержимое 4" descr="ВС29727.jpg"/>
          <p:cNvPicPr/>
          <p:nvPr/>
        </p:nvPicPr>
        <p:blipFill>
          <a:blip r:embed="rId1"/>
          <a:stretch/>
        </p:blipFill>
        <p:spPr>
          <a:xfrm>
            <a:off x="1353960" y="2435400"/>
            <a:ext cx="2597400" cy="368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57440" y="1680840"/>
            <a:ext cx="3259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Онищенко О.С. В177/1-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4" name="Содержимое 7" descr="Онищенко В177.1.jpg"/>
          <p:cNvPicPr/>
          <p:nvPr/>
        </p:nvPicPr>
        <p:blipFill>
          <a:blip r:embed="rId2"/>
          <a:stretch/>
        </p:blipFill>
        <p:spPr>
          <a:xfrm>
            <a:off x="5251320" y="2505240"/>
            <a:ext cx="264348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222200" y="1680840"/>
            <a:ext cx="32752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58603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66800" y="1680840"/>
            <a:ext cx="32497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55772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7" name="Содержимое 5" descr="ВА586032.jpg"/>
          <p:cNvPicPr/>
          <p:nvPr/>
        </p:nvPicPr>
        <p:blipFill>
          <a:blip r:embed="rId1"/>
          <a:stretch/>
        </p:blipFill>
        <p:spPr>
          <a:xfrm>
            <a:off x="1227240" y="2505240"/>
            <a:ext cx="2674800" cy="368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Содержимое 6" descr="ВА557720.jpg"/>
          <p:cNvPicPr/>
          <p:nvPr/>
        </p:nvPicPr>
        <p:blipFill>
          <a:blip r:embed="rId2"/>
          <a:stretch/>
        </p:blipFill>
        <p:spPr>
          <a:xfrm>
            <a:off x="5251320" y="2506680"/>
            <a:ext cx="2643480" cy="368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Monotype Corsiva"/>
              </a:rPr>
              <a:t>•</a:t>
            </a:r>
            <a:r>
              <a:rPr b="1" lang="uk-UA" sz="1800" spc="-1" strike="noStrike">
                <a:solidFill>
                  <a:srgbClr val="000000"/>
                </a:solidFill>
                <a:latin typeface="Monotype Corsiva"/>
              </a:rPr>
              <a:t>досліджує питання історії слов’янської рукописної книги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39480" y="1680840"/>
            <a:ext cx="325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ВА57039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8880" y="2532240"/>
            <a:ext cx="3887640" cy="42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Monotype Corsiva"/>
              </a:rPr>
              <a:t>Відділ рукописів 80-і рр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2" name="Содержимое 12" descr="P729.jpg"/>
          <p:cNvPicPr/>
          <p:nvPr/>
        </p:nvPicPr>
        <p:blipFill>
          <a:blip r:embed="rId1"/>
          <a:stretch/>
        </p:blipFill>
        <p:spPr>
          <a:xfrm>
            <a:off x="4629240" y="3191040"/>
            <a:ext cx="3887640" cy="231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Содержимое 7" descr="ВА570397.jpg"/>
          <p:cNvPicPr/>
          <p:nvPr/>
        </p:nvPicPr>
        <p:blipFill>
          <a:blip r:embed="rId2"/>
          <a:stretch/>
        </p:blipFill>
        <p:spPr>
          <a:xfrm>
            <a:off x="1244520" y="2506680"/>
            <a:ext cx="2640240" cy="368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30T13:58:58Z</dcterms:created>
  <dc:creator>Dmytro</dc:creator>
  <dc:description/>
  <dc:language>en-US</dc:language>
  <cp:lastModifiedBy>Admin</cp:lastModifiedBy>
  <dcterms:modified xsi:type="dcterms:W3CDTF">2020-10-01T06:25:44Z</dcterms:modified>
  <cp:revision>163</cp:revision>
  <dc:subject/>
  <dc:title>Название презентации</dc:title>
</cp:coreProperties>
</file>