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F284-4483-4781-A70B-A52C1826A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B564-12A1-461B-B6D7-A5F92EA1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3D7E-51F7-40F4-943B-28D573BB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55D5-ABA8-47E0-8A01-F13F05626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0B13-DACE-45B6-B1E4-5C1A5CD32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40A7-5BE1-4D15-9E5C-6E610D25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4F84-C7C8-43D8-9070-89EEF617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CBAB-8E63-4B39-A5E1-6D179E9B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31D0-A0BA-48AD-9EE8-CF478697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6A67-5116-4B54-9975-1B34F727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0DAB-0721-4881-AB36-A8A276BA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0A20-8D9B-40AC-8F95-54EAE5C3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E8A8-F8DC-4AA8-9B59-D79DC9DE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C71A-ED1F-4A40-9BB0-C831D4EA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FAF3-A107-4C81-8CB2-4E8DD15F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A2CE-942B-49C0-B32E-5C682657B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9504-8E3D-4C6C-A16D-83765092F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5AA0-4BD0-4C85-BDC9-DDA8BBC7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177F-359E-4896-BDEA-457985D3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9CB0-59EA-44B4-941B-FBBF8E4D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3928-7219-4F21-B259-C85C9627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3051-1F95-4582-B019-AB7D4EF7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8371-D137-4E79-994B-D115F0B6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E7E3-B1AA-43FB-8958-5C0BD7B4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27CD-C9E2-47FC-86EC-3E803EDB28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DD17-7134-4280-8138-5CEDB9F08F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rusd@uar.net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280" y="1628640"/>
            <a:ext cx="79930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Телекоммуникационная инфраструктура НАН Украины</a:t>
            </a:r>
            <a:br>
              <a:rPr sz="2800"/>
            </a:b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(состояние, перспективы развития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58920" y="5733720"/>
            <a:ext cx="6913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Дубицкий Русла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уководитель киевского представительства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арне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044) 239-66-30, 239-66-5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rusd@uar.net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8028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Государственное предприятие Научно-телекоммуникационный центр“Украинская академическая и исследовательская сеть” ИФКС НАН Украины</a:t>
            </a:r>
            <a:br>
              <a:rPr sz="1800"/>
            </a:b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UARNet -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U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kranian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cademic &amp;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search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NET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ork)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415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арнет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представлен на телекоммуникационном рынке Укаины уже болем 12 лет. В 1993г., с помощью Шведской космической корпорации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арнет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построил свой собственный спутниковый канал доступа к глобальным информационным сетям </a:t>
            </a:r>
            <a:r>
              <a:rPr b="0" lang="uk-UA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а сегодняшний день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арнет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является самым большим провайдером западной Украины. Емкость внешних каналов составляет более 1300Мбит/с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арнет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имеет свои узлы в Львове, Киеве, Ровно, Ивано-Франковске, Тернополе, Луцке, Ужгороде, Черновцах, Днепропетровске и других городах, которые связаны между собой скоростными цифровыми потокам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еть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арнет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зарегистрирована  Европейским сетевым координационным центром (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IPE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) как автономная система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арнет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имеет статус Интернет-регистратора с адресным пулом 256 сетей класса С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рнет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имеет представительства в 8 областных центрах и Киеве и более 200км. собственных оптоволоконных каналов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9640" y="1844640"/>
            <a:ext cx="8344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ерсонал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арнет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составляет 69 человек, 49 из которых являются техническими специалистам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 декабря 200г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арнет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включен в список операторов которые имеют право предоставлять услуги доступа к глобальным сетям передачи данных органам исполнительной власти и другим государственным организациям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слугами сети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арнет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пользуются органы государственной власти и местного самоуправления, высшие учебные заведения, учреждения Национальной Академии наук Украины, промышленные предприятия, банковские структуры и средства массовой информации. Среди них более 300 академических, научных и образовательных учреждений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арнет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является исполнителем по созданию академической оптоволоконной сети НАН Украины со скоростью передачи данных более 1000Мбит/с и ее подключения к Европейской академической сети GEANT.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042920" y="333360"/>
            <a:ext cx="78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Государственное предприятие Научно-телекоммуникационный центр“Украинская академическая и исследовательская сеть” ИФКС НАН Украины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UARNet -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U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kranian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cademic &amp;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search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NET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or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63640" y="333360"/>
            <a:ext cx="561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еть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UARNet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егодн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71640" y="800280"/>
            <a:ext cx="8172360" cy="57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Основные цели создания сети передачи данных НАН Украины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920" y="201780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здание единого национального научно-информационного пространства, для обеспечения эффективного развития научной деятельности Украины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едоставление возможности научным и образовательным организациям Украины выхода на европейский уровень информационного обеспечени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еспечение возможности доступа научным и образовательным организациям Украины к глобальным информационным ресурсам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едоставление возможности представителям науки и образования Украины принимать участие в совместных международных проектах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вещение в глобальных информационных сетях достижений отечественной науки и образования.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81000"/>
            <a:ext cx="779292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Критерии создания сети передачи данных НАН Украины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983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ahoma"/>
              </a:rPr>
              <a:t>Эффективность.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Возможность совместного использования специализированных ресурсов академической сети. Участия в глобальных информационных проектах. Обеспечение доступа к внутренним ресурсам сети, а так же к украинским ресурсам Интернет на скорости физического подключения(до 1000Мбит/с). Доступ во внешний Интернет на необходимой скорос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ahoma"/>
              </a:rPr>
              <a:t>Надежность.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Гарантированная доставка данных внутри сети. Единая техническая служба поддержки от точки входа внешнего Интернет до пользовател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ahoma"/>
              </a:rPr>
              <a:t>Безопасность.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Данные между участниками сети передаются без выхода во внешний Интернет. Единая система сетевой безопаснос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ahoma"/>
              </a:rPr>
              <a:t>Экономия.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Доступ к внутренним ресурсам академической сети НАН Украины, украинским ресурсам Интернет,  а так же к ресурсам внешних академических сетей не тарифицируется. Доступ во внешний Интернет предоставляется по специальным низким тарифам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5640" y="620640"/>
            <a:ext cx="779292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Этапы построения, перспективы развит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8199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 2004г., согласно Программе информатизации НАН Украины, в г. Киеве были созданы 7 Опорных узлов телекоммуникационной сети передачи данных НАН Украины. Узлы расположены в местах скопления учреждений НАН Украины, что позволяет максимально упростить их подключение в единую сеть передачи данных НАН Украины. Скорость передачи данных между узлами не превышала 2Мбит/с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 2005г. Опорные узлы НАН Украины в г. Киеве были соединены оптоволоконными каналами связи. Скорость передачи данных между ними составила 1000 Мбит/с. Был построен оптоволоконный канал Киев-Львов-Польша (для выхода в польскую академическую сеть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IONER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 2006г. к телекоммуникационной сети НАН Украины подключены оптоволоконными каналами 63 учреждения НАН Украины, которые расположены в г. Киеве. Построен  оптоволоконный канал Польша-Львов-Киев-Харьков, установлено оборудование позволяющее обеспечить передачу данных на скорости от 2,5 до 400 Гбит/с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007-2010г. Соединить оптоволоконными каналами региональные научные центры Украины. Построить региональные фрагменты телекоммуникационной инфраструктуры НАН Украины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Киевский фрагмент сети НАН Украины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40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68403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Магистральная сеть НАН Украины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43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7T22:52:01Z</dcterms:created>
  <dc:creator>oles</dc:creator>
  <dc:description/>
  <dc:language>en-US</dc:language>
  <cp:lastModifiedBy>Your User Name</cp:lastModifiedBy>
  <dcterms:modified xsi:type="dcterms:W3CDTF">2007-02-02T08:08:49Z</dcterms:modified>
  <cp:revision>27</cp:revision>
  <dc:subject/>
  <dc:title>UARNet in1998</dc:title>
</cp:coreProperties>
</file>