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33.jpeg" ContentType="image/jpeg"/>
  <Override PartName="/ppt/media/image10.png" ContentType="image/png"/>
  <Override PartName="/ppt/media/image27.jpeg" ContentType="image/jpeg"/>
  <Override PartName="/ppt/media/image37.wmf" ContentType="image/x-wmf"/>
  <Override PartName="/ppt/media/image38.wmf" ContentType="image/x-wmf"/>
  <Override PartName="/ppt/media/image43.wmf" ContentType="image/x-wmf"/>
  <Override PartName="/ppt/media/image44.wmf" ContentType="image/x-wmf"/>
  <Override PartName="/ppt/media/image45.jpeg" ContentType="image/jpeg"/>
  <Override PartName="/ppt/media/image12.png" ContentType="image/png"/>
  <Override PartName="/ppt/media/image40.wmf" ContentType="image/x-wmf"/>
  <Override PartName="/ppt/media/image7.png" ContentType="image/png"/>
  <Override PartName="/ppt/media/image22.jpeg" ContentType="image/jpeg"/>
  <Override PartName="/ppt/media/image42.wmf" ContentType="image/x-wmf"/>
  <Override PartName="/ppt/media/image9.png" ContentType="image/png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10C2-263D-4271-869C-A2C118AB6BA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627-B597-44CA-88CE-4F310ECE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35D-E35C-4336-B134-99C5DFF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AFA-89E4-4999-BDEF-B09A2340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770-0487-498C-BDE2-F969A972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B42-9CE4-4065-A269-E4C65ED6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F5C-737B-4615-AEC7-EEBED759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667-2C19-4A70-BC77-A22371E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829-8AA0-4F6D-B618-3ACBD805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D71-07D0-470F-8985-C4D22A5A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D9A-EE58-4D9B-985F-2B89E1C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D65-3D77-4EA9-AB38-6F41EE4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C90-B4E3-49FA-94B1-03343EA9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269C-FBF0-47D3-89D3-FBD65DFC6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image" Target="../media/image5.png"/><Relationship Id="rId10" Type="http://schemas.openxmlformats.org/officeDocument/2006/relationships/image" Target="../media/image1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2.png"/><Relationship Id="rId14" Type="http://schemas.openxmlformats.org/officeDocument/2006/relationships/image" Target="../media/image32.png"/><Relationship Id="rId15" Type="http://schemas.openxmlformats.org/officeDocument/2006/relationships/image" Target="../media/image33.jpeg"/><Relationship Id="rId16" Type="http://schemas.openxmlformats.org/officeDocument/2006/relationships/slideLayout" Target="../slideLayouts/slideLayout2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image" Target="../media/image26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image" Target="../media/image26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52280"/>
            <a:ext cx="4800600" cy="167652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800600" cy="1676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5105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Соловяненко Денис Воло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. н. с. Центру комп’ютерних технологій НБУ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buv_logo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419720" cy="1386000"/>
          </a:xfrm>
          <a:prstGeom prst="rect">
            <a:avLst/>
          </a:prstGeom>
          <a:ln w="0">
            <a:noFill/>
          </a:ln>
        </p:spPr>
      </p:pic>
      <p:pic>
        <p:nvPicPr>
          <p:cNvPr id="52" name="logoEhost" descr=""/>
          <p:cNvPicPr/>
          <p:nvPr/>
        </p:nvPicPr>
        <p:blipFill>
          <a:blip r:embed="rId2"/>
          <a:stretch/>
        </p:blipFill>
        <p:spPr>
          <a:xfrm>
            <a:off x="7086600" y="838080"/>
            <a:ext cx="809640" cy="238320"/>
          </a:xfrm>
          <a:prstGeom prst="rect">
            <a:avLst/>
          </a:prstGeom>
          <a:ln w="0">
            <a:noFill/>
          </a:ln>
        </p:spPr>
      </p:pic>
      <p:pic>
        <p:nvPicPr>
          <p:cNvPr id="53" name="logo_ScienceDirect" descr=""/>
          <p:cNvPicPr/>
          <p:nvPr/>
        </p:nvPicPr>
        <p:blipFill>
          <a:blip r:embed="rId3"/>
          <a:stretch/>
        </p:blipFill>
        <p:spPr>
          <a:xfrm>
            <a:off x="6019920" y="457200"/>
            <a:ext cx="1062000" cy="314280"/>
          </a:xfrm>
          <a:prstGeom prst="rect">
            <a:avLst/>
          </a:prstGeom>
          <a:ln w="0">
            <a:noFill/>
          </a:ln>
        </p:spPr>
      </p:pic>
      <p:pic>
        <p:nvPicPr>
          <p:cNvPr id="54" name="logo_a_to_z" descr=""/>
          <p:cNvPicPr/>
          <p:nvPr/>
        </p:nvPicPr>
        <p:blipFill>
          <a:blip r:embed="rId4"/>
          <a:stretch/>
        </p:blipFill>
        <p:spPr>
          <a:xfrm>
            <a:off x="5105520" y="1295280"/>
            <a:ext cx="476280" cy="447840"/>
          </a:xfrm>
          <a:prstGeom prst="rect">
            <a:avLst/>
          </a:prstGeom>
          <a:ln w="0">
            <a:noFill/>
          </a:ln>
        </p:spPr>
      </p:pic>
      <p:pic>
        <p:nvPicPr>
          <p:cNvPr id="55" name="logo_ieee2" descr=""/>
          <p:cNvPicPr/>
          <p:nvPr/>
        </p:nvPicPr>
        <p:blipFill>
          <a:blip r:embed="rId5"/>
          <a:stretch/>
        </p:blipFill>
        <p:spPr>
          <a:xfrm>
            <a:off x="7924680" y="9907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56" name="logo_scopus" descr=""/>
          <p:cNvPicPr/>
          <p:nvPr/>
        </p:nvPicPr>
        <p:blipFill>
          <a:blip r:embed="rId6"/>
          <a:stretch/>
        </p:blipFill>
        <p:spPr>
          <a:xfrm>
            <a:off x="7848720" y="685800"/>
            <a:ext cx="79992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logo_aip1" descr=""/>
          <p:cNvPicPr/>
          <p:nvPr/>
        </p:nvPicPr>
        <p:blipFill>
          <a:blip r:embed="rId7"/>
          <a:stretch/>
        </p:blipFill>
        <p:spPr>
          <a:xfrm>
            <a:off x="7086600" y="1447920"/>
            <a:ext cx="1495440" cy="261720"/>
          </a:xfrm>
          <a:prstGeom prst="rect">
            <a:avLst/>
          </a:prstGeom>
          <a:ln w="0">
            <a:noFill/>
          </a:ln>
        </p:spPr>
      </p:pic>
      <p:pic>
        <p:nvPicPr>
          <p:cNvPr id="58" name="logo_oxford" descr=""/>
          <p:cNvPicPr/>
          <p:nvPr/>
        </p:nvPicPr>
        <p:blipFill>
          <a:blip r:embed="rId8"/>
          <a:stretch/>
        </p:blipFill>
        <p:spPr>
          <a:xfrm>
            <a:off x="5105520" y="152280"/>
            <a:ext cx="871560" cy="243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Інформація про використання передплачених онлайнових науково-інформаційних ресурсів установами НАН України у 2006 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_AMS" descr=""/>
          <p:cNvPicPr/>
          <p:nvPr/>
        </p:nvPicPr>
        <p:blipFill>
          <a:blip r:embed="rId9"/>
          <a:stretch/>
        </p:blipFill>
        <p:spPr>
          <a:xfrm>
            <a:off x="7620120" y="228600"/>
            <a:ext cx="380880" cy="295200"/>
          </a:xfrm>
          <a:prstGeom prst="rect">
            <a:avLst/>
          </a:prstGeom>
          <a:ln w="0">
            <a:noFill/>
          </a:ln>
        </p:spPr>
      </p:pic>
      <p:pic>
        <p:nvPicPr>
          <p:cNvPr id="62" name="logo_ACS" descr=""/>
          <p:cNvPicPr/>
          <p:nvPr/>
        </p:nvPicPr>
        <p:blipFill>
          <a:blip r:embed="rId10"/>
          <a:stretch/>
        </p:blipFill>
        <p:spPr>
          <a:xfrm>
            <a:off x="5105520" y="838080"/>
            <a:ext cx="1144440" cy="196920"/>
          </a:xfrm>
          <a:prstGeom prst="rect">
            <a:avLst/>
          </a:prstGeom>
          <a:ln w="0">
            <a:noFill/>
          </a:ln>
        </p:spPr>
      </p:pic>
      <p:pic>
        <p:nvPicPr>
          <p:cNvPr id="63" name="logo_ASME" descr=""/>
          <p:cNvPicPr/>
          <p:nvPr/>
        </p:nvPicPr>
        <p:blipFill>
          <a:blip r:embed="rId11"/>
          <a:stretch/>
        </p:blipFill>
        <p:spPr>
          <a:xfrm>
            <a:off x="8153280" y="228600"/>
            <a:ext cx="486000" cy="2952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5791320" y="1066680"/>
            <a:ext cx="1147680" cy="642960"/>
            <a:chOff x="5791320" y="1066680"/>
            <a:chExt cx="1147680" cy="642960"/>
          </a:xfrm>
        </p:grpSpPr>
        <p:pic>
          <p:nvPicPr>
            <p:cNvPr id="65" name="logo_ucicago2" descr=""/>
            <p:cNvPicPr/>
            <p:nvPr/>
          </p:nvPicPr>
          <p:blipFill>
            <a:blip r:embed="rId12"/>
            <a:stretch/>
          </p:blipFill>
          <p:spPr>
            <a:xfrm>
              <a:off x="5791320" y="1371600"/>
              <a:ext cx="114768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logo_AAS" descr=""/>
            <p:cNvPicPr/>
            <p:nvPr/>
          </p:nvPicPr>
          <p:blipFill>
            <a:blip r:embed="rId13"/>
            <a:stretch/>
          </p:blipFill>
          <p:spPr>
            <a:xfrm>
              <a:off x="6248160" y="1066680"/>
              <a:ext cx="334800" cy="33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logo_SGM" descr=""/>
          <p:cNvPicPr/>
          <p:nvPr/>
        </p:nvPicPr>
        <p:blipFill>
          <a:blip r:embed="rId14"/>
          <a:stretch/>
        </p:blipFill>
        <p:spPr>
          <a:xfrm>
            <a:off x="7162920" y="228600"/>
            <a:ext cx="33156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1141560"/>
            <a:ext cx="510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524240" cy="60984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09480" y="2362320"/>
            <a:ext cx="7201080" cy="520560"/>
            <a:chOff x="609480" y="2362320"/>
            <a:chExt cx="7201080" cy="520560"/>
          </a:xfrm>
        </p:grpSpPr>
        <p:sp>
          <p:nvSpPr>
            <p:cNvPr id="259" name=""/>
            <p:cNvSpPr/>
            <p:nvPr/>
          </p:nvSpPr>
          <p:spPr>
            <a:xfrm>
              <a:off x="609480" y="2362320"/>
              <a:ext cx="632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66"/>
                  </a:solidFill>
                  <a:latin typeface="Times New Roman"/>
                </a:rPr>
                <a:t>Бази даних на платформ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3"/>
            <a:stretch/>
          </p:blipFill>
          <p:spPr>
            <a:xfrm>
              <a:off x="6934320" y="2438280"/>
              <a:ext cx="87624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1447920" y="312408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0560" y="2895480"/>
            <a:ext cx="30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cademic Search Prem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609480" y="2895480"/>
            <a:ext cx="876600" cy="419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030560" y="3327480"/>
            <a:ext cx="30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Regional Business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37702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440" y="3124080"/>
            <a:ext cx="1440" cy="27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1640" y="5680080"/>
            <a:ext cx="479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Library Literature &amp; Information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440" y="488952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0560" y="311148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Business Source Prem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01640" y="467208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In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1640" y="5429160"/>
            <a:ext cx="46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pplied Science &amp; Technology Abstract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0560" y="3760920"/>
            <a:ext cx="30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ocINDEX With Full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0560" y="3543480"/>
            <a:ext cx="24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omputer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1640" y="4924440"/>
            <a:ext cx="25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rrent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1640" y="442116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E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1640" y="5176800"/>
            <a:ext cx="23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Biological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33386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98628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355428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440" y="51404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440" y="4637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440" y="53928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440" y="5645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440" y="589752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57480" y="3124080"/>
            <a:ext cx="5040" cy="172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0560" y="3976560"/>
            <a:ext cx="28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Environment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57480" y="42022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0560" y="4192560"/>
            <a:ext cx="24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Scientific Ameri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57480" y="44179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0560" y="440856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Computers &amp; Applied Science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463392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7480" y="484992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30560" y="4767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Library, Information Science &amp; Technology Abstracts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With Full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56040" y="2684520"/>
            <a:ext cx="521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Електронна журнальна колекція American Astronomical Society (University of Chicago P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наукових товари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60360" y="4487760"/>
            <a:ext cx="66614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5 журналі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внотекстове покриття з 1996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936720" y="3463920"/>
            <a:ext cx="2305080" cy="677880"/>
          </a:xfrm>
          <a:prstGeom prst="rect">
            <a:avLst/>
          </a:prstGeom>
          <a:ln w="0">
            <a:noFill/>
          </a:ln>
        </p:spPr>
      </p:pic>
      <p:pic>
        <p:nvPicPr>
          <p:cNvPr id="300" name="logo_AAS" descr=""/>
          <p:cNvPicPr/>
          <p:nvPr/>
        </p:nvPicPr>
        <p:blipFill>
          <a:blip r:embed="rId3"/>
          <a:stretch/>
        </p:blipFill>
        <p:spPr>
          <a:xfrm>
            <a:off x="1828800" y="2819520"/>
            <a:ext cx="666720" cy="67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048120" y="2666880"/>
            <a:ext cx="52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Електронна журнальна колекція American Chemical Socie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наукових товари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87760"/>
            <a:ext cx="66614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34 журна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внотекстове покриття з 1879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logo_ACS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2266920" cy="39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29000" y="2673360"/>
            <a:ext cx="512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Електронна журнальна колекція American Institute of Phys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наукових товари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60360" y="4487760"/>
            <a:ext cx="66614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11 журналі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внотекстове покриття з 1913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298764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590920" y="269568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Електронна журнальна колекція American Mathematical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наукових товари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0360" y="4487760"/>
            <a:ext cx="66614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10 журналі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внотекстове покриття 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1996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logo_AMS_big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59040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905120" y="2695680"/>
            <a:ext cx="646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Електронна журнальна колекція American Society of Mechanical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наукових товари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60360" y="4487760"/>
            <a:ext cx="66614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20 журналі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внотекстове покриття з 2000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logo_ASME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97164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160720" y="269568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Електронна журнальна колекція IEEE Communication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наукових товари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60360" y="4487760"/>
            <a:ext cx="66614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123 журна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внотекстове покриття з 1953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133200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14600" y="2695680"/>
            <a:ext cx="54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Електронна журнальна колекція Society for General Micro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наукових товари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60360" y="4487760"/>
            <a:ext cx="66614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4 журна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внотекстове покриття з 1916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logo_SGM" descr=""/>
          <p:cNvPicPr/>
          <p:nvPr/>
        </p:nvPicPr>
        <p:blipFill>
          <a:blip r:embed="rId2"/>
          <a:stretch/>
        </p:blipFill>
        <p:spPr>
          <a:xfrm>
            <a:off x="1752480" y="2895480"/>
            <a:ext cx="65880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286000" y="269568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Електронна журнальна колекція Oxford University 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наукових товари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3770280"/>
            <a:ext cx="6480360" cy="25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66"/>
                </a:solidFill>
                <a:latin typeface="Times New Roman"/>
              </a:rPr>
              <a:t>Mathmatics and Physical Science Col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24 журнали (1999 - 2006 рр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66"/>
                </a:solidFill>
                <a:latin typeface="Times New Roman"/>
              </a:rPr>
              <a:t>Life Sciences Col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27 журналів (1999 - 2006 рр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174312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004760" y="289728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Інформаційна служб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Зведений каталог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ої період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859280" y="2706840"/>
            <a:ext cx="951120" cy="8935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685800" y="3809880"/>
            <a:ext cx="7591320" cy="2178000"/>
            <a:chOff x="685800" y="3809880"/>
            <a:chExt cx="7591320" cy="2178000"/>
          </a:xfrm>
        </p:grpSpPr>
        <p:sp>
          <p:nvSpPr>
            <p:cNvPr id="349" name=""/>
            <p:cNvSpPr/>
            <p:nvPr/>
          </p:nvSpPr>
          <p:spPr>
            <a:xfrm>
              <a:off x="4676760" y="4132440"/>
              <a:ext cx="36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Times New Roman"/>
                </a:rPr>
                <a:t>пошукова система з можливостями простого та розширеного пошуку періодичних видан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AtoZscreenshot1" descr=""/>
            <p:cNvPicPr/>
            <p:nvPr/>
          </p:nvPicPr>
          <p:blipFill>
            <a:blip r:embed="rId3"/>
            <a:stretch/>
          </p:blipFill>
          <p:spPr>
            <a:xfrm>
              <a:off x="685800" y="3809880"/>
              <a:ext cx="3657600" cy="2178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V.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Онлайнові періодичні видання</a:t>
            </a:r>
            <a:br>
              <a:rPr sz="4400"/>
            </a:b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НБУВ у 2006 році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-natlib_____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1295280" y="4267080"/>
            <a:ext cx="7010640" cy="1981440"/>
            <a:chOff x="1295280" y="4267080"/>
            <a:chExt cx="7010640" cy="1981440"/>
          </a:xfrm>
        </p:grpSpPr>
        <p:sp>
          <p:nvSpPr>
            <p:cNvPr id="72" name=""/>
            <p:cNvSpPr/>
            <p:nvPr/>
          </p:nvSpPr>
          <p:spPr>
            <a:xfrm>
              <a:off x="1295280" y="4267080"/>
              <a:ext cx="70106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Безкоштовні зібранн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ogo_free" descr=""/>
            <p:cNvPicPr/>
            <p:nvPr/>
          </p:nvPicPr>
          <p:blipFill>
            <a:blip r:embed="rId2"/>
            <a:stretch/>
          </p:blipFill>
          <p:spPr>
            <a:xfrm>
              <a:off x="1371600" y="4419720"/>
              <a:ext cx="685800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1295280" y="3048120"/>
            <a:ext cx="7010640" cy="1218960"/>
            <a:chOff x="1295280" y="3048120"/>
            <a:chExt cx="7010640" cy="1218960"/>
          </a:xfrm>
        </p:grpSpPr>
        <p:sp>
          <p:nvSpPr>
            <p:cNvPr id="75" name=""/>
            <p:cNvSpPr/>
            <p:nvPr/>
          </p:nvSpPr>
          <p:spPr>
            <a:xfrm>
              <a:off x="1295280" y="3048120"/>
              <a:ext cx="7010640" cy="1218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есурси проекту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 Black"/>
                </a:rPr>
                <a:t>IN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Logo_blackwell" descr=""/>
            <p:cNvPicPr/>
            <p:nvPr/>
          </p:nvPicPr>
          <p:blipFill>
            <a:blip r:embed="rId3"/>
            <a:stretch/>
          </p:blipFill>
          <p:spPr>
            <a:xfrm>
              <a:off x="1600200" y="3579840"/>
              <a:ext cx="139068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springerlink-logo" descr=""/>
            <p:cNvPicPr/>
            <p:nvPr/>
          </p:nvPicPr>
          <p:blipFill>
            <a:blip r:embed="rId4"/>
            <a:stretch/>
          </p:blipFill>
          <p:spPr>
            <a:xfrm>
              <a:off x="3505320" y="3579840"/>
              <a:ext cx="1714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638680" y="3505320"/>
              <a:ext cx="6858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logo_zmath" descr=""/>
            <p:cNvPicPr/>
            <p:nvPr/>
          </p:nvPicPr>
          <p:blipFill>
            <a:blip r:embed="rId5"/>
            <a:stretch/>
          </p:blipFill>
          <p:spPr>
            <a:xfrm>
              <a:off x="5715000" y="3505320"/>
              <a:ext cx="2381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638680" y="3057480"/>
              <a:ext cx="68580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95280" y="3505320"/>
            <a:ext cx="7010640" cy="2361960"/>
            <a:chOff x="1295280" y="3505320"/>
            <a:chExt cx="7010640" cy="2361960"/>
          </a:xfrm>
        </p:grpSpPr>
        <p:sp>
          <p:nvSpPr>
            <p:cNvPr id="82" name=""/>
            <p:cNvSpPr/>
            <p:nvPr/>
          </p:nvSpPr>
          <p:spPr>
            <a:xfrm>
              <a:off x="1295280" y="3505320"/>
              <a:ext cx="701064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ередплачені матеріал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371600" y="4038480"/>
              <a:ext cx="6877080" cy="1819440"/>
              <a:chOff x="1371600" y="4038480"/>
              <a:chExt cx="6877080" cy="1819440"/>
            </a:xfrm>
          </p:grpSpPr>
          <p:pic>
            <p:nvPicPr>
              <p:cNvPr id="84" name="logoEhost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9400" y="5334120"/>
                <a:ext cx="16192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logo_ScienceDirect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2520" y="4724280"/>
                <a:ext cx="2124000" cy="62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logo_ieee2" descr=""/>
              <p:cNvPicPr/>
              <p:nvPr/>
            </p:nvPicPr>
            <p:blipFill>
              <a:blip r:embed="rId8"/>
              <a:stretch/>
            </p:blipFill>
            <p:spPr>
              <a:xfrm>
                <a:off x="2362320" y="4800600"/>
                <a:ext cx="133344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logo_aip1" descr=""/>
              <p:cNvPicPr/>
              <p:nvPr/>
            </p:nvPicPr>
            <p:blipFill>
              <a:blip r:embed="rId9"/>
              <a:stretch/>
            </p:blipFill>
            <p:spPr>
              <a:xfrm>
                <a:off x="3429000" y="5334120"/>
                <a:ext cx="299088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logo_oxford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47920" y="5334120"/>
                <a:ext cx="174312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logo_AMS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05520" y="4038480"/>
                <a:ext cx="761760" cy="59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logo_ACS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43600" y="4114800"/>
                <a:ext cx="2289240" cy="39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logo_ASME" descr=""/>
              <p:cNvPicPr/>
              <p:nvPr/>
            </p:nvPicPr>
            <p:blipFill>
              <a:blip r:embed="rId13"/>
              <a:stretch/>
            </p:blipFill>
            <p:spPr>
              <a:xfrm>
                <a:off x="6781680" y="4648320"/>
                <a:ext cx="97164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logo_ucicago2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1600" y="4038480"/>
                <a:ext cx="2295360" cy="67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logo_SGM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38480" y="4038480"/>
                <a:ext cx="663840" cy="66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04760" y="289728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Інформаційна служб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Зведений каталог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ої період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859280" y="2706840"/>
            <a:ext cx="951120" cy="893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33520" y="4952880"/>
            <a:ext cx="80769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БУВ пропонує українським вчен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інформаційне забезпечення якісно нового рівня вичерпност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289548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очка доступу до 25 000 повнотекстових вида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ClipBoard-1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472464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004760" y="289728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Інформаційна служб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18920" y="1165680"/>
            <a:ext cx="5761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Зведений каталог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ої період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859280" y="2706840"/>
            <a:ext cx="951120" cy="89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4" name=""/>
          <p:cNvGraphicFramePr/>
          <p:nvPr/>
        </p:nvGraphicFramePr>
        <p:xfrm>
          <a:off x="838080" y="4572000"/>
          <a:ext cx="7607520" cy="17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572000"/>
                    <a:ext cx="76075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6" name="ClipBoard-1" descr=""/>
          <p:cNvPicPr/>
          <p:nvPr/>
        </p:nvPicPr>
        <p:blipFill>
          <a:blip r:embed="rId5"/>
          <a:stretch/>
        </p:blipFill>
        <p:spPr>
          <a:xfrm>
            <a:off x="152280" y="3429000"/>
            <a:ext cx="472464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99640" y="150876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Інтеграція платфор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319640" y="2765520"/>
            <a:ext cx="162072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326880" y="2462040"/>
            <a:ext cx="3576600" cy="1008360"/>
            <a:chOff x="326880" y="2462040"/>
            <a:chExt cx="3576600" cy="1008360"/>
          </a:xfrm>
        </p:grpSpPr>
        <p:pic>
          <p:nvPicPr>
            <p:cNvPr id="372" name="" descr=""/>
            <p:cNvPicPr/>
            <p:nvPr/>
          </p:nvPicPr>
          <p:blipFill>
            <a:blip r:embed="rId3"/>
            <a:stretch/>
          </p:blipFill>
          <p:spPr>
            <a:xfrm>
              <a:off x="2305440" y="2913120"/>
              <a:ext cx="1598040" cy="19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"/>
            <p:cNvGrpSpPr/>
            <p:nvPr/>
          </p:nvGrpSpPr>
          <p:grpSpPr>
            <a:xfrm>
              <a:off x="326880" y="2462040"/>
              <a:ext cx="1797480" cy="1008360"/>
              <a:chOff x="326880" y="2462040"/>
              <a:chExt cx="1797480" cy="1008360"/>
            </a:xfrm>
          </p:grpSpPr>
          <p:sp>
            <p:nvSpPr>
              <p:cNvPr id="374" name=""/>
              <p:cNvSpPr/>
              <p:nvPr/>
            </p:nvSpPr>
            <p:spPr>
              <a:xfrm>
                <a:off x="1045080" y="2534760"/>
                <a:ext cx="107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4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Times New Roman"/>
                  </a:rPr>
                  <a:t>Бази дани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6880" y="2462040"/>
                <a:ext cx="898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4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6000" spc="-1" strike="noStrike">
                    <a:solidFill>
                      <a:srgbClr val="000066"/>
                    </a:solidFill>
                    <a:latin typeface="Times New Roman"/>
                  </a:rPr>
                  <a:t>2.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671400" y="3762360"/>
            <a:ext cx="7787880" cy="1276200"/>
            <a:chOff x="671400" y="3762360"/>
            <a:chExt cx="7787880" cy="1276200"/>
          </a:xfrm>
        </p:grpSpPr>
        <p:sp>
          <p:nvSpPr>
            <p:cNvPr id="377" name=""/>
            <p:cNvSpPr/>
            <p:nvPr/>
          </p:nvSpPr>
          <p:spPr>
            <a:xfrm>
              <a:off x="7251480" y="3762360"/>
              <a:ext cx="1207800" cy="127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671400" y="3958920"/>
              <a:ext cx="7656120" cy="890640"/>
              <a:chOff x="671400" y="3958920"/>
              <a:chExt cx="7656120" cy="890640"/>
            </a:xfrm>
          </p:grpSpPr>
          <p:pic>
            <p:nvPicPr>
              <p:cNvPr id="3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77480" y="3958920"/>
                <a:ext cx="950040" cy="8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671400" y="3972960"/>
                <a:ext cx="2023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4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Times New Roman"/>
                  </a:rPr>
                  <a:t>Електронний катало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6873840" y="2724120"/>
            <a:ext cx="1445760" cy="531720"/>
            <a:chOff x="6873840" y="2724120"/>
            <a:chExt cx="1445760" cy="531720"/>
          </a:xfrm>
        </p:grpSpPr>
        <p:pic>
          <p:nvPicPr>
            <p:cNvPr id="382" name="" descr=""/>
            <p:cNvPicPr/>
            <p:nvPr/>
          </p:nvPicPr>
          <p:blipFill>
            <a:blip r:embed="rId5"/>
            <a:stretch/>
          </p:blipFill>
          <p:spPr>
            <a:xfrm>
              <a:off x="7824960" y="2724120"/>
              <a:ext cx="49464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6"/>
            <a:stretch/>
          </p:blipFill>
          <p:spPr>
            <a:xfrm>
              <a:off x="6873840" y="2872800"/>
              <a:ext cx="955800" cy="29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385920" y="5221440"/>
            <a:ext cx="8048160" cy="1008360"/>
            <a:chOff x="385920" y="5221440"/>
            <a:chExt cx="8048160" cy="1008360"/>
          </a:xfrm>
        </p:grpSpPr>
        <p:pic>
          <p:nvPicPr>
            <p:cNvPr id="385" name="" descr=""/>
            <p:cNvPicPr/>
            <p:nvPr/>
          </p:nvPicPr>
          <p:blipFill>
            <a:blip r:embed="rId7"/>
            <a:stretch/>
          </p:blipFill>
          <p:spPr>
            <a:xfrm>
              <a:off x="2699640" y="5626080"/>
              <a:ext cx="1061640" cy="3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6" name=""/>
            <p:cNvGrpSpPr/>
            <p:nvPr/>
          </p:nvGrpSpPr>
          <p:grpSpPr>
            <a:xfrm>
              <a:off x="385920" y="5221440"/>
              <a:ext cx="2203920" cy="1008360"/>
              <a:chOff x="385920" y="5221440"/>
              <a:chExt cx="2203920" cy="1008360"/>
            </a:xfrm>
          </p:grpSpPr>
          <p:sp>
            <p:nvSpPr>
              <p:cNvPr id="387" name=""/>
              <p:cNvSpPr/>
              <p:nvPr/>
            </p:nvSpPr>
            <p:spPr>
              <a:xfrm>
                <a:off x="1061280" y="5292360"/>
                <a:ext cx="1528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4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Times New Roman"/>
                  </a:rPr>
                  <a:t>Веб-сайти видавці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5920" y="5221440"/>
                <a:ext cx="871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45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6000" spc="-1" strike="noStrike">
                    <a:solidFill>
                      <a:srgbClr val="000066"/>
                    </a:solidFill>
                    <a:latin typeface="Times New Roman"/>
                  </a:rPr>
                  <a:t>1.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9" name="" descr=""/>
            <p:cNvPicPr/>
            <p:nvPr/>
          </p:nvPicPr>
          <p:blipFill>
            <a:blip r:embed="rId8"/>
            <a:stretch/>
          </p:blipFill>
          <p:spPr>
            <a:xfrm>
              <a:off x="5039280" y="5940360"/>
              <a:ext cx="8568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9"/>
            <a:stretch/>
          </p:blipFill>
          <p:spPr>
            <a:xfrm>
              <a:off x="3652200" y="5940360"/>
              <a:ext cx="66636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10"/>
            <a:stretch/>
          </p:blipFill>
          <p:spPr>
            <a:xfrm>
              <a:off x="7739280" y="5580000"/>
              <a:ext cx="69480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11"/>
            <a:stretch/>
          </p:blipFill>
          <p:spPr>
            <a:xfrm>
              <a:off x="6423120" y="5940360"/>
              <a:ext cx="1495080" cy="2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2"/>
            <a:stretch/>
          </p:blipFill>
          <p:spPr>
            <a:xfrm>
              <a:off x="4318920" y="5697360"/>
              <a:ext cx="87120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3"/>
            <a:stretch/>
          </p:blipFill>
          <p:spPr>
            <a:xfrm>
              <a:off x="5510880" y="5580000"/>
              <a:ext cx="1147320" cy="3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"/>
          <p:cNvSpPr/>
          <p:nvPr/>
        </p:nvSpPr>
        <p:spPr>
          <a:xfrm>
            <a:off x="3060720" y="3240000"/>
            <a:ext cx="1440" cy="2340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879640" y="3236760"/>
            <a:ext cx="1800" cy="2346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60720" y="3240000"/>
            <a:ext cx="900000" cy="2519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60720" y="3240000"/>
            <a:ext cx="1440000" cy="2340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60720" y="3240000"/>
            <a:ext cx="2340000" cy="270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60720" y="3240000"/>
            <a:ext cx="2340000" cy="2340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60720" y="3240000"/>
            <a:ext cx="3779640" cy="270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60720" y="3240000"/>
            <a:ext cx="4500720" cy="2340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59280" y="3240000"/>
            <a:ext cx="2455920" cy="8748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134960" y="4495680"/>
            <a:ext cx="3103560" cy="1443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181120" y="4724280"/>
            <a:ext cx="2133720" cy="990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937120" y="4859280"/>
            <a:ext cx="1446480" cy="1079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629400" y="4952880"/>
            <a:ext cx="914400" cy="6858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376760" y="5040360"/>
            <a:ext cx="366840" cy="720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920000" y="5040360"/>
            <a:ext cx="1800" cy="539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780000" y="2340000"/>
            <a:ext cx="626760" cy="672840"/>
            <a:chOff x="3780000" y="2340000"/>
            <a:chExt cx="626760" cy="672840"/>
          </a:xfrm>
        </p:grpSpPr>
        <p:sp>
          <p:nvSpPr>
            <p:cNvPr id="411" name=""/>
            <p:cNvSpPr/>
            <p:nvPr/>
          </p:nvSpPr>
          <p:spPr>
            <a:xfrm>
              <a:off x="3964680" y="2832480"/>
              <a:ext cx="359280" cy="180360"/>
            </a:xfrm>
            <a:prstGeom prst="leftRightArrow">
              <a:avLst>
                <a:gd name="adj1" fmla="val 50000"/>
                <a:gd name="adj2" fmla="val 39656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14"/>
            <a:stretch/>
          </p:blipFill>
          <p:spPr>
            <a:xfrm>
              <a:off x="3780000" y="2340000"/>
              <a:ext cx="626760" cy="47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"/>
          <p:cNvSpPr/>
          <p:nvPr/>
        </p:nvSpPr>
        <p:spPr>
          <a:xfrm flipH="1">
            <a:off x="3236760" y="3240000"/>
            <a:ext cx="1625760" cy="2340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135320" y="3240000"/>
            <a:ext cx="727200" cy="2519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59280" y="3240000"/>
            <a:ext cx="1800" cy="2340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59280" y="3240000"/>
            <a:ext cx="539640" cy="270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251160"/>
            <a:ext cx="900000" cy="23288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3240000"/>
            <a:ext cx="2160720" cy="270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59280" y="3240000"/>
            <a:ext cx="2879640" cy="2160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5397120" y="3235320"/>
            <a:ext cx="1986120" cy="72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7376760" y="3236400"/>
            <a:ext cx="366840" cy="546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8099280" y="3236400"/>
            <a:ext cx="1800" cy="546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595680" y="4267080"/>
            <a:ext cx="3643200" cy="1312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00360" y="3240000"/>
            <a:ext cx="3638520" cy="1179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nbuvsiteScreenshot1" descr=""/>
          <p:cNvPicPr/>
          <p:nvPr/>
        </p:nvPicPr>
        <p:blipFill>
          <a:blip r:embed="rId15"/>
          <a:stretch/>
        </p:blipFill>
        <p:spPr>
          <a:xfrm>
            <a:off x="3352680" y="3352680"/>
            <a:ext cx="3657600" cy="21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1296000"/>
            <a:ext cx="720108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Організація інформаційного забезпечення </a:t>
            </a: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установ НАН Украї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2535120"/>
            <a:ext cx="2279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НАН Украї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(112 устано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1620720" cy="4762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514600" y="2819520"/>
            <a:ext cx="762120" cy="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52280" y="2895480"/>
            <a:ext cx="3732480" cy="3310200"/>
            <a:chOff x="152280" y="2895480"/>
            <a:chExt cx="3732480" cy="3310200"/>
          </a:xfrm>
        </p:grpSpPr>
        <p:sp>
          <p:nvSpPr>
            <p:cNvPr id="433" name=""/>
            <p:cNvSpPr/>
            <p:nvPr/>
          </p:nvSpPr>
          <p:spPr>
            <a:xfrm>
              <a:off x="1600200" y="3276720"/>
              <a:ext cx="0" cy="53316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52280" y="2895480"/>
              <a:ext cx="3732480" cy="3310200"/>
              <a:chOff x="152280" y="2895480"/>
              <a:chExt cx="3732480" cy="3310200"/>
            </a:xfrm>
          </p:grpSpPr>
          <p:sp>
            <p:nvSpPr>
              <p:cNvPr id="435" name=""/>
              <p:cNvSpPr/>
              <p:nvPr/>
            </p:nvSpPr>
            <p:spPr>
              <a:xfrm>
                <a:off x="1905120" y="3505320"/>
                <a:ext cx="360360" cy="144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3429000"/>
                <a:ext cx="1598760" cy="19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0200" y="3505320"/>
                <a:ext cx="2124000" cy="62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28600" y="5943600"/>
                <a:ext cx="1495440" cy="26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19320" y="4495680"/>
                <a:ext cx="87156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2120" y="5334120"/>
                <a:ext cx="66672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logo_ACS" descr=""/>
              <p:cNvPicPr/>
              <p:nvPr/>
            </p:nvPicPr>
            <p:blipFill>
              <a:blip r:embed="rId8"/>
              <a:stretch/>
            </p:blipFill>
            <p:spPr>
              <a:xfrm>
                <a:off x="1371600" y="4267080"/>
                <a:ext cx="114444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logo_AMS_big" descr=""/>
              <p:cNvPicPr/>
              <p:nvPr/>
            </p:nvPicPr>
            <p:blipFill>
              <a:blip r:embed="rId9"/>
              <a:stretch/>
            </p:blipFill>
            <p:spPr>
              <a:xfrm>
                <a:off x="1066680" y="4724280"/>
                <a:ext cx="2955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logo_ASME" descr=""/>
              <p:cNvPicPr/>
              <p:nvPr/>
            </p:nvPicPr>
            <p:blipFill>
              <a:blip r:embed="rId10"/>
              <a:stretch/>
            </p:blipFill>
            <p:spPr>
              <a:xfrm>
                <a:off x="914400" y="5029200"/>
                <a:ext cx="485640" cy="2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logo_SGM" descr=""/>
              <p:cNvPicPr/>
              <p:nvPr/>
            </p:nvPicPr>
            <p:blipFill>
              <a:blip r:embed="rId11"/>
              <a:stretch/>
            </p:blipFill>
            <p:spPr>
              <a:xfrm>
                <a:off x="609480" y="556272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23880" y="3962520"/>
                <a:ext cx="1148040" cy="33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905120" y="3276720"/>
                <a:ext cx="0" cy="22860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752480" y="3276720"/>
                <a:ext cx="0" cy="38088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47920" y="3276720"/>
                <a:ext cx="0" cy="83808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95280" y="3276720"/>
                <a:ext cx="0" cy="106668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3276720"/>
                <a:ext cx="0" cy="144756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38080" y="3276720"/>
                <a:ext cx="1800" cy="197964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5800" y="3276720"/>
                <a:ext cx="0" cy="220968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33520" y="3276720"/>
                <a:ext cx="0" cy="266688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3276720"/>
                <a:ext cx="0" cy="1676160"/>
              </a:xfrm>
              <a:prstGeom prst="line">
                <a:avLst/>
              </a:prstGeom>
              <a:ln w="360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52280" y="2895480"/>
                <a:ext cx="2514600" cy="459720"/>
                <a:chOff x="152280" y="2895480"/>
                <a:chExt cx="2514600" cy="459720"/>
              </a:xfrm>
            </p:grpSpPr>
            <p:sp>
              <p:nvSpPr>
                <p:cNvPr id="456" name=""/>
                <p:cNvSpPr/>
                <p:nvPr/>
              </p:nvSpPr>
              <p:spPr>
                <a:xfrm rot="16200000">
                  <a:off x="1239480" y="1884240"/>
                  <a:ext cx="339840" cy="2514600"/>
                </a:xfrm>
                <a:prstGeom prst="can">
                  <a:avLst>
                    <a:gd name="adj" fmla="val 4606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914400" y="2895480"/>
                  <a:ext cx="102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451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2400" spc="-1" strike="noStrike">
                      <a:solidFill>
                        <a:srgbClr val="000066"/>
                      </a:solidFill>
                      <a:latin typeface="Times New Roman"/>
                    </a:rPr>
                    <a:t>НБУВ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99640" y="1296000"/>
            <a:ext cx="720108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Організація інформаційного забезпечення </a:t>
            </a: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установ НАН Украї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9640" y="2535120"/>
            <a:ext cx="2279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НАН Украї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(112 устано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1620720" cy="4762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514600" y="2819520"/>
            <a:ext cx="762120" cy="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733920" y="3200400"/>
            <a:ext cx="2590560" cy="2285640"/>
            <a:chOff x="3733920" y="3200400"/>
            <a:chExt cx="2590560" cy="2285640"/>
          </a:xfrm>
        </p:grpSpPr>
        <p:sp>
          <p:nvSpPr>
            <p:cNvPr id="465" name=""/>
            <p:cNvSpPr/>
            <p:nvPr/>
          </p:nvSpPr>
          <p:spPr>
            <a:xfrm>
              <a:off x="3733920" y="4965840"/>
              <a:ext cx="2590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конденсованих систе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72200" y="3200400"/>
              <a:ext cx="0" cy="17812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905120" y="35053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2286000" y="3429000"/>
            <a:ext cx="1598760" cy="198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1600200" y="3505320"/>
            <a:ext cx="2124000" cy="6271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228600" y="5943600"/>
            <a:ext cx="1495440" cy="2620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1219320" y="4495680"/>
            <a:ext cx="871560" cy="2430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7"/>
          <a:stretch/>
        </p:blipFill>
        <p:spPr>
          <a:xfrm>
            <a:off x="762120" y="53341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473" name="logo_ACS" descr=""/>
          <p:cNvPicPr/>
          <p:nvPr/>
        </p:nvPicPr>
        <p:blipFill>
          <a:blip r:embed="rId8"/>
          <a:stretch/>
        </p:blipFill>
        <p:spPr>
          <a:xfrm>
            <a:off x="1371600" y="4267080"/>
            <a:ext cx="1144440" cy="196920"/>
          </a:xfrm>
          <a:prstGeom prst="rect">
            <a:avLst/>
          </a:prstGeom>
          <a:ln w="0">
            <a:noFill/>
          </a:ln>
        </p:spPr>
      </p:pic>
      <p:pic>
        <p:nvPicPr>
          <p:cNvPr id="474" name="logo_AMS_big" descr=""/>
          <p:cNvPicPr/>
          <p:nvPr/>
        </p:nvPicPr>
        <p:blipFill>
          <a:blip r:embed="rId9"/>
          <a:stretch/>
        </p:blipFill>
        <p:spPr>
          <a:xfrm>
            <a:off x="1066680" y="4724280"/>
            <a:ext cx="295560" cy="252360"/>
          </a:xfrm>
          <a:prstGeom prst="rect">
            <a:avLst/>
          </a:prstGeom>
          <a:ln w="0">
            <a:noFill/>
          </a:ln>
        </p:spPr>
      </p:pic>
      <p:pic>
        <p:nvPicPr>
          <p:cNvPr id="475" name="logo_ASME" descr=""/>
          <p:cNvPicPr/>
          <p:nvPr/>
        </p:nvPicPr>
        <p:blipFill>
          <a:blip r:embed="rId10"/>
          <a:stretch/>
        </p:blipFill>
        <p:spPr>
          <a:xfrm>
            <a:off x="914400" y="5029200"/>
            <a:ext cx="485640" cy="295200"/>
          </a:xfrm>
          <a:prstGeom prst="rect">
            <a:avLst/>
          </a:prstGeom>
          <a:ln w="0">
            <a:noFill/>
          </a:ln>
        </p:spPr>
      </p:pic>
      <p:pic>
        <p:nvPicPr>
          <p:cNvPr id="476" name="logo_SGM" descr=""/>
          <p:cNvPicPr/>
          <p:nvPr/>
        </p:nvPicPr>
        <p:blipFill>
          <a:blip r:embed="rId11"/>
          <a:stretch/>
        </p:blipFill>
        <p:spPr>
          <a:xfrm>
            <a:off x="609480" y="5562720"/>
            <a:ext cx="331920" cy="3315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2"/>
          <a:stretch/>
        </p:blipFill>
        <p:spPr>
          <a:xfrm>
            <a:off x="1523880" y="3962520"/>
            <a:ext cx="1148040" cy="338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905120" y="3276720"/>
            <a:ext cx="0" cy="22860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3276720"/>
            <a:ext cx="0" cy="38088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3276720"/>
            <a:ext cx="0" cy="53316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3276720"/>
            <a:ext cx="0" cy="83808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276720"/>
            <a:ext cx="0" cy="106668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3000" y="3276720"/>
            <a:ext cx="0" cy="144756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3276720"/>
            <a:ext cx="1800" cy="197964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3276720"/>
            <a:ext cx="0" cy="220968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0720" y="3276720"/>
            <a:ext cx="0" cy="1676160"/>
          </a:xfrm>
          <a:prstGeom prst="line">
            <a:avLst/>
          </a:prstGeom>
          <a:ln w="360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124080" y="3200400"/>
            <a:ext cx="3353040" cy="2580840"/>
            <a:chOff x="3124080" y="3200400"/>
            <a:chExt cx="3353040" cy="2580840"/>
          </a:xfrm>
        </p:grpSpPr>
        <p:sp>
          <p:nvSpPr>
            <p:cNvPr id="489" name=""/>
            <p:cNvSpPr/>
            <p:nvPr/>
          </p:nvSpPr>
          <p:spPr>
            <a:xfrm>
              <a:off x="3124080" y="5261040"/>
              <a:ext cx="335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біоорганічної хімії та нафтохімі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24480" y="3200400"/>
              <a:ext cx="0" cy="20764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23160" y="3200400"/>
            <a:ext cx="1904760" cy="2072520"/>
            <a:chOff x="6923160" y="3200400"/>
            <a:chExt cx="1904760" cy="2072520"/>
          </a:xfrm>
        </p:grpSpPr>
        <p:sp>
          <p:nvSpPr>
            <p:cNvPr id="492" name=""/>
            <p:cNvSpPr/>
            <p:nvPr/>
          </p:nvSpPr>
          <p:spPr>
            <a:xfrm>
              <a:off x="7086600" y="3200400"/>
              <a:ext cx="0" cy="17812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23160" y="496584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математи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32760" y="3200400"/>
            <a:ext cx="1600200" cy="1481760"/>
            <a:chOff x="7232760" y="3200400"/>
            <a:chExt cx="1600200" cy="1481760"/>
          </a:xfrm>
        </p:grpSpPr>
        <p:sp>
          <p:nvSpPr>
            <p:cNvPr id="495" name=""/>
            <p:cNvSpPr/>
            <p:nvPr/>
          </p:nvSpPr>
          <p:spPr>
            <a:xfrm>
              <a:off x="7232760" y="4375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зоологі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1520" y="3200400"/>
              <a:ext cx="0" cy="119052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581280" y="3200400"/>
            <a:ext cx="2438640" cy="1481760"/>
            <a:chOff x="3581280" y="3200400"/>
            <a:chExt cx="2438640" cy="1481760"/>
          </a:xfrm>
        </p:grpSpPr>
        <p:sp>
          <p:nvSpPr>
            <p:cNvPr id="498" name=""/>
            <p:cNvSpPr/>
            <p:nvPr/>
          </p:nvSpPr>
          <p:spPr>
            <a:xfrm>
              <a:off x="3581280" y="437508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ядерних досліджен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67280" y="3200400"/>
              <a:ext cx="0" cy="119052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657600" y="3200400"/>
            <a:ext cx="2514600" cy="1776960"/>
            <a:chOff x="3657600" y="3200400"/>
            <a:chExt cx="2514600" cy="1776960"/>
          </a:xfrm>
        </p:grpSpPr>
        <p:sp>
          <p:nvSpPr>
            <p:cNvPr id="501" name=""/>
            <p:cNvSpPr/>
            <p:nvPr/>
          </p:nvSpPr>
          <p:spPr>
            <a:xfrm>
              <a:off x="6019920" y="3200400"/>
              <a:ext cx="0" cy="14860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57600" y="46702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загальної енергети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6769080" y="3200400"/>
            <a:ext cx="1981080" cy="2367720"/>
            <a:chOff x="6769080" y="3200400"/>
            <a:chExt cx="1981080" cy="2367720"/>
          </a:xfrm>
        </p:grpSpPr>
        <p:sp>
          <p:nvSpPr>
            <p:cNvPr id="504" name=""/>
            <p:cNvSpPr/>
            <p:nvPr/>
          </p:nvSpPr>
          <p:spPr>
            <a:xfrm>
              <a:off x="6769080" y="526104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металофізи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34320" y="3200400"/>
              <a:ext cx="0" cy="20764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388280" y="3200400"/>
            <a:ext cx="1523880" cy="1186560"/>
            <a:chOff x="7388280" y="3200400"/>
            <a:chExt cx="1523880" cy="1186560"/>
          </a:xfrm>
        </p:grpSpPr>
        <p:sp>
          <p:nvSpPr>
            <p:cNvPr id="507" name=""/>
            <p:cNvSpPr/>
            <p:nvPr/>
          </p:nvSpPr>
          <p:spPr>
            <a:xfrm>
              <a:off x="7388280" y="407988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біохімі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43800" y="3200400"/>
              <a:ext cx="0" cy="89532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078680" y="3200400"/>
            <a:ext cx="1752480" cy="1776960"/>
            <a:chOff x="7078680" y="3200400"/>
            <a:chExt cx="1752480" cy="1776960"/>
          </a:xfrm>
        </p:grpSpPr>
        <p:sp>
          <p:nvSpPr>
            <p:cNvPr id="510" name=""/>
            <p:cNvSpPr/>
            <p:nvPr/>
          </p:nvSpPr>
          <p:spPr>
            <a:xfrm>
              <a:off x="7238880" y="3200400"/>
              <a:ext cx="0" cy="14860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78680" y="467028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фізіологі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543800" y="3200400"/>
            <a:ext cx="1447920" cy="891360"/>
            <a:chOff x="7543800" y="3200400"/>
            <a:chExt cx="1447920" cy="891360"/>
          </a:xfrm>
        </p:grpSpPr>
        <p:sp>
          <p:nvSpPr>
            <p:cNvPr id="513" name=""/>
            <p:cNvSpPr/>
            <p:nvPr/>
          </p:nvSpPr>
          <p:spPr>
            <a:xfrm>
              <a:off x="7543800" y="37846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фізи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96080" y="3200400"/>
              <a:ext cx="0" cy="60156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613560" y="3200400"/>
            <a:ext cx="2362320" cy="2662920"/>
            <a:chOff x="6613560" y="3200400"/>
            <a:chExt cx="2362320" cy="2662920"/>
          </a:xfrm>
        </p:grpSpPr>
        <p:sp>
          <p:nvSpPr>
            <p:cNvPr id="516" name=""/>
            <p:cNvSpPr/>
            <p:nvPr/>
          </p:nvSpPr>
          <p:spPr>
            <a:xfrm>
              <a:off x="6781680" y="3200400"/>
              <a:ext cx="0" cy="23716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13560" y="555624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теоретичної фізи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114800" y="3200400"/>
            <a:ext cx="1447920" cy="596160"/>
            <a:chOff x="4114800" y="3200400"/>
            <a:chExt cx="1447920" cy="596160"/>
          </a:xfrm>
        </p:grpSpPr>
        <p:sp>
          <p:nvSpPr>
            <p:cNvPr id="519" name=""/>
            <p:cNvSpPr/>
            <p:nvPr/>
          </p:nvSpPr>
          <p:spPr>
            <a:xfrm>
              <a:off x="4114800" y="34894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Президія НАН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10080" y="3200400"/>
              <a:ext cx="0" cy="30492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657600" y="3200400"/>
            <a:ext cx="5105520" cy="2958120"/>
            <a:chOff x="3657600" y="3200400"/>
            <a:chExt cx="5105520" cy="2958120"/>
          </a:xfrm>
        </p:grpSpPr>
        <p:sp>
          <p:nvSpPr>
            <p:cNvPr id="522" name=""/>
            <p:cNvSpPr/>
            <p:nvPr/>
          </p:nvSpPr>
          <p:spPr>
            <a:xfrm>
              <a:off x="6629400" y="3200400"/>
              <a:ext cx="0" cy="26668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57600" y="5851440"/>
              <a:ext cx="510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експериментальної паталогії, онкології та радіобіологі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505320" y="3200400"/>
            <a:ext cx="2361960" cy="1186560"/>
            <a:chOff x="3505320" y="3200400"/>
            <a:chExt cx="2361960" cy="1186560"/>
          </a:xfrm>
        </p:grpSpPr>
        <p:sp>
          <p:nvSpPr>
            <p:cNvPr id="525" name=""/>
            <p:cNvSpPr/>
            <p:nvPr/>
          </p:nvSpPr>
          <p:spPr>
            <a:xfrm>
              <a:off x="3505320" y="4079880"/>
              <a:ext cx="23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програмних систе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5000" y="3200400"/>
              <a:ext cx="0" cy="89532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733920" y="3200400"/>
            <a:ext cx="1981080" cy="891360"/>
            <a:chOff x="3733920" y="3200400"/>
            <a:chExt cx="1981080" cy="891360"/>
          </a:xfrm>
        </p:grpSpPr>
        <p:sp>
          <p:nvSpPr>
            <p:cNvPr id="528" name=""/>
            <p:cNvSpPr/>
            <p:nvPr/>
          </p:nvSpPr>
          <p:spPr>
            <a:xfrm>
              <a:off x="3733920" y="37846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фізичної хімі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62720" y="3200400"/>
              <a:ext cx="0" cy="60156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743200" y="3200400"/>
            <a:ext cx="3886200" cy="2662920"/>
            <a:chOff x="2743200" y="3200400"/>
            <a:chExt cx="3886200" cy="2662920"/>
          </a:xfrm>
        </p:grpSpPr>
        <p:sp>
          <p:nvSpPr>
            <p:cNvPr id="531" name=""/>
            <p:cNvSpPr/>
            <p:nvPr/>
          </p:nvSpPr>
          <p:spPr>
            <a:xfrm>
              <a:off x="6477120" y="3200400"/>
              <a:ext cx="0" cy="2371680"/>
            </a:xfrm>
            <a:prstGeom prst="line">
              <a:avLst/>
            </a:prstGeom>
            <a:ln w="360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43200" y="5556240"/>
              <a:ext cx="38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Times New Roman"/>
                </a:rPr>
                <a:t>Інститут проблем математичних машин і систе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 rot="16200000">
            <a:off x="4356000" y="-1231560"/>
            <a:ext cx="339840" cy="8747280"/>
          </a:xfrm>
          <a:prstGeom prst="can">
            <a:avLst>
              <a:gd name="adj" fmla="val 1231"/>
            </a:avLst>
          </a:prstGeom>
          <a:solidFill>
            <a:srgbClr val="99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289548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НБУ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logo_UarNet" descr=""/>
          <p:cNvPicPr/>
          <p:nvPr/>
        </p:nvPicPr>
        <p:blipFill>
          <a:blip r:embed="rId13"/>
          <a:stretch/>
        </p:blipFill>
        <p:spPr>
          <a:xfrm>
            <a:off x="3352680" y="2895480"/>
            <a:ext cx="215280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Загальні показники користування передплаченими матеріал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98680" y="3962520"/>
            <a:ext cx="43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Кількість користувацьких сес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3880" y="4419720"/>
            <a:ext cx="44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Середня тривалість кожної сес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3520" y="491508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Загальна тривалість всіх сес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962520"/>
            <a:ext cx="13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34 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59600" y="44197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35 х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197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61 307 г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5410080"/>
            <a:ext cx="8305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7 рок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8 годин на кожного науковця НАН Украї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Загальні показники користування передплаченими матеріал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82840" y="4114800"/>
            <a:ext cx="47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Кількість користувацьких пошук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43000" y="5410080"/>
            <a:ext cx="6858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Можливостями розширеного пошуку користує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1,25% користувачів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771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107 0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838080" y="4648320"/>
            <a:ext cx="4156200" cy="916920"/>
            <a:chOff x="838080" y="4648320"/>
            <a:chExt cx="4156200" cy="916920"/>
          </a:xfrm>
        </p:grpSpPr>
        <p:sp>
          <p:nvSpPr>
            <p:cNvPr id="555" name=""/>
            <p:cNvSpPr/>
            <p:nvPr/>
          </p:nvSpPr>
          <p:spPr>
            <a:xfrm>
              <a:off x="838080" y="4648320"/>
              <a:ext cx="41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Times New Roman"/>
                </a:rPr>
                <a:t>Пошук за ключовими словам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74760" y="5105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Times New Roman"/>
                </a:rPr>
                <a:t>78,8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369040" y="4648320"/>
            <a:ext cx="2708280" cy="916920"/>
            <a:chOff x="5369040" y="4648320"/>
            <a:chExt cx="2708280" cy="916920"/>
          </a:xfrm>
        </p:grpSpPr>
        <p:sp>
          <p:nvSpPr>
            <p:cNvPr id="558" name=""/>
            <p:cNvSpPr/>
            <p:nvPr/>
          </p:nvSpPr>
          <p:spPr>
            <a:xfrm>
              <a:off x="5369040" y="4648320"/>
              <a:ext cx="27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Тематичний пошу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48520" y="5105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8,1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Загальні показники користування передплаченими матеріал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4191120"/>
            <a:ext cx="43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Кількість отриманих реферат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4876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Кількість повних текст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06520" y="5562720"/>
            <a:ext cx="52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Кількість зареєстрованих користувач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3728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148 8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319 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7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секція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21000" y="3908520"/>
          <a:ext cx="6097320" cy="23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1000" y="3908520"/>
                    <a:ext cx="60973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відділення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457200" y="3809880"/>
          <a:ext cx="8275680" cy="238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9880"/>
                    <a:ext cx="827568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Онлайнові періодичні видання</a:t>
            </a:r>
            <a:br>
              <a:rPr sz="4400"/>
            </a:b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НБУВ у 2006 році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logo-natlib_____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295280" y="4267080"/>
            <a:ext cx="7010640" cy="1981440"/>
            <a:chOff x="1295280" y="4267080"/>
            <a:chExt cx="7010640" cy="1981440"/>
          </a:xfrm>
        </p:grpSpPr>
        <p:sp>
          <p:nvSpPr>
            <p:cNvPr id="98" name=""/>
            <p:cNvSpPr/>
            <p:nvPr/>
          </p:nvSpPr>
          <p:spPr>
            <a:xfrm>
              <a:off x="1295280" y="4267080"/>
              <a:ext cx="70106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Безкоштовні зібранн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logo_free" descr=""/>
            <p:cNvPicPr/>
            <p:nvPr/>
          </p:nvPicPr>
          <p:blipFill>
            <a:blip r:embed="rId2"/>
            <a:stretch/>
          </p:blipFill>
          <p:spPr>
            <a:xfrm>
              <a:off x="1371600" y="4419720"/>
              <a:ext cx="685800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295280" y="3048120"/>
            <a:ext cx="7010640" cy="1218960"/>
            <a:chOff x="1295280" y="3048120"/>
            <a:chExt cx="7010640" cy="1218960"/>
          </a:xfrm>
        </p:grpSpPr>
        <p:sp>
          <p:nvSpPr>
            <p:cNvPr id="101" name=""/>
            <p:cNvSpPr/>
            <p:nvPr/>
          </p:nvSpPr>
          <p:spPr>
            <a:xfrm>
              <a:off x="1295280" y="3048120"/>
              <a:ext cx="7010640" cy="1218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есурси проекту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 Black"/>
                </a:rPr>
                <a:t>IN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Logo_blackwell" descr=""/>
            <p:cNvPicPr/>
            <p:nvPr/>
          </p:nvPicPr>
          <p:blipFill>
            <a:blip r:embed="rId3"/>
            <a:stretch/>
          </p:blipFill>
          <p:spPr>
            <a:xfrm>
              <a:off x="1600200" y="3579840"/>
              <a:ext cx="139068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springerlink-logo" descr=""/>
            <p:cNvPicPr/>
            <p:nvPr/>
          </p:nvPicPr>
          <p:blipFill>
            <a:blip r:embed="rId4"/>
            <a:stretch/>
          </p:blipFill>
          <p:spPr>
            <a:xfrm>
              <a:off x="3505320" y="3579840"/>
              <a:ext cx="1714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38680" y="3505320"/>
              <a:ext cx="6858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ogo_zmath" descr=""/>
            <p:cNvPicPr/>
            <p:nvPr/>
          </p:nvPicPr>
          <p:blipFill>
            <a:blip r:embed="rId5"/>
            <a:stretch/>
          </p:blipFill>
          <p:spPr>
            <a:xfrm>
              <a:off x="5715000" y="3505320"/>
              <a:ext cx="2381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638680" y="3057480"/>
              <a:ext cx="68580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295280" y="3505320"/>
            <a:ext cx="7010640" cy="2361960"/>
            <a:chOff x="1295280" y="3505320"/>
            <a:chExt cx="7010640" cy="2361960"/>
          </a:xfrm>
        </p:grpSpPr>
        <p:sp>
          <p:nvSpPr>
            <p:cNvPr id="108" name=""/>
            <p:cNvSpPr/>
            <p:nvPr/>
          </p:nvSpPr>
          <p:spPr>
            <a:xfrm>
              <a:off x="1295280" y="3505320"/>
              <a:ext cx="701064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ередплачені матеріал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371600" y="4038480"/>
              <a:ext cx="6877080" cy="1819440"/>
              <a:chOff x="1371600" y="4038480"/>
              <a:chExt cx="6877080" cy="1819440"/>
            </a:xfrm>
          </p:grpSpPr>
          <p:pic>
            <p:nvPicPr>
              <p:cNvPr id="110" name="logoEhost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9400" y="5334120"/>
                <a:ext cx="16192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logo_ScienceDirect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2520" y="4724280"/>
                <a:ext cx="2124000" cy="62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logo_ieee2" descr=""/>
              <p:cNvPicPr/>
              <p:nvPr/>
            </p:nvPicPr>
            <p:blipFill>
              <a:blip r:embed="rId8"/>
              <a:stretch/>
            </p:blipFill>
            <p:spPr>
              <a:xfrm>
                <a:off x="2362320" y="4800600"/>
                <a:ext cx="133344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logo_aip1" descr=""/>
              <p:cNvPicPr/>
              <p:nvPr/>
            </p:nvPicPr>
            <p:blipFill>
              <a:blip r:embed="rId9"/>
              <a:stretch/>
            </p:blipFill>
            <p:spPr>
              <a:xfrm>
                <a:off x="3429000" y="5334120"/>
                <a:ext cx="299088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logo_oxford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47920" y="5334120"/>
                <a:ext cx="174312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logo_AMS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05520" y="4038480"/>
                <a:ext cx="761760" cy="59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logo_ACS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43600" y="4114800"/>
                <a:ext cx="2289240" cy="39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logo_ASME" descr=""/>
              <p:cNvPicPr/>
              <p:nvPr/>
            </p:nvPicPr>
            <p:blipFill>
              <a:blip r:embed="rId13"/>
              <a:stretch/>
            </p:blipFill>
            <p:spPr>
              <a:xfrm>
                <a:off x="6781680" y="4648320"/>
                <a:ext cx="97164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logo_ucicago2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1600" y="4038480"/>
                <a:ext cx="2295360" cy="67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logo_SGM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38480" y="4038480"/>
                <a:ext cx="663840" cy="66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0" name="logo_scopus" descr=""/>
          <p:cNvPicPr/>
          <p:nvPr/>
        </p:nvPicPr>
        <p:blipFill>
          <a:blip r:embed="rId16"/>
          <a:stretch/>
        </p:blipFill>
        <p:spPr>
          <a:xfrm>
            <a:off x="2362320" y="2362320"/>
            <a:ext cx="48196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відділення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457200" y="3809880"/>
          <a:ext cx="3809880" cy="238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9880"/>
                    <a:ext cx="380988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700520" y="3809880"/>
          <a:ext cx="3908520" cy="238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0520" y="3809880"/>
                    <a:ext cx="390852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аціональна бібліотека України ім. В.І. Вернадського - 27 371 сесі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я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НЦ “Харківський фізико-технічний інститут” - 667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Фізико-технічний інститут низьких температур - 473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біоорганічної хімії та нафтохімії - 432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гідромеханіки - 382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фізики - 35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радіофізики і електроніки - 31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соціології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- 250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Фізико-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механiчний інститут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243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теоретичної фiзики - 232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рикладної фiзики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- 200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фізики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напiвпровiдникiв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9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фізики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конденсованих систем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- 195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роблем матерiалознавства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94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біохімії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90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фізіології - 186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надтвердих матерiалiв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184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геофізи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7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зоології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- 164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Радiоастрономiчний інститут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4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молекулярної біології і генети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44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історії України - 134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НТК "Iнститут монокристалiв"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127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електрозварювання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24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геохімії, мінералогії та рудоутворення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- 117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Головна астрономічна обсерваторія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15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Рада по вивченню продуктивних сил Україн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13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історії України - 134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металофізики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111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експериментальної паталогії, онкології та радіобіології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0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Фізико-хімічний і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ститут - 80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електродинамі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7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Морський гідрофізичний інститут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66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фізичної хімії - 63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Львівська наукова бібліотека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62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кібернети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6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механі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5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літератур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55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проблем міцності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5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загальної енергетики - 47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мікробіології і вірусології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46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загальної і неорганічної хімії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43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відновлюваної енергети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42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Донецький фізико-технічний інститут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4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економічного прогнозування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3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фізико-органічної хімії і вуглехімії - 36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ботаніки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33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математи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3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прикладної математики і механіки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3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проблем реєстрації інформації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28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олтавська гравіометрична обсерваторія Інституту геофізи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26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археології - 20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сходознавства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20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ядерних досліджень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5105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logo-natlib_____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pic>
        <p:nvPicPr>
          <p:cNvPr id="124" name="logo_elsevier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logo_ScienceDirect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4246560" cy="12574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609480" y="2362320"/>
            <a:ext cx="7848720" cy="3659040"/>
            <a:chOff x="609480" y="2362320"/>
            <a:chExt cx="7848720" cy="3659040"/>
          </a:xfrm>
        </p:grpSpPr>
        <p:pic>
          <p:nvPicPr>
            <p:cNvPr id="127" name="SDscreenshot2" descr=""/>
            <p:cNvPicPr/>
            <p:nvPr/>
          </p:nvPicPr>
          <p:blipFill>
            <a:blip r:embed="rId4"/>
            <a:stretch/>
          </p:blipFill>
          <p:spPr>
            <a:xfrm>
              <a:off x="685800" y="3809880"/>
              <a:ext cx="3720960" cy="22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09480" y="3048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66"/>
                  </a:solidFill>
                  <a:latin typeface="Times New Roman"/>
                </a:rPr>
                <a:t>для доступу до повних текстів </a:t>
              </a: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Elsevi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8320" y="2362320"/>
              <a:ext cx="35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66"/>
                  </a:solidFill>
                  <a:latin typeface="Times New Roman"/>
                </a:rPr>
                <a:t> – </a:t>
              </a:r>
              <a:r>
                <a:rPr b="0" lang="ru-RU" sz="3600" spc="-1" strike="noStrike">
                  <a:solidFill>
                    <a:srgbClr val="000066"/>
                  </a:solidFill>
                  <a:latin typeface="Times New Roman"/>
                </a:rPr>
                <a:t>це платформ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SDscreenshot3" descr=""/>
          <p:cNvPicPr/>
          <p:nvPr/>
        </p:nvPicPr>
        <p:blipFill>
          <a:blip r:embed="rId5"/>
          <a:stretch/>
        </p:blipFill>
        <p:spPr>
          <a:xfrm>
            <a:off x="5029200" y="3886200"/>
            <a:ext cx="2266920" cy="1838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H="1">
            <a:off x="2133360" y="4191120"/>
            <a:ext cx="2895480" cy="1523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4267080"/>
            <a:ext cx="761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41972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5720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50292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1814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334120"/>
            <a:ext cx="685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5486400"/>
            <a:ext cx="761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кріобіології і кріомедицин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8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філософії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8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електронної фiзи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6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гідробіології - 15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проблем моделювання в енергетиці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11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І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геологічних наук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0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сорбції та проблем ендоекології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0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програмних систем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9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газу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7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хімії високомолекулярних сполук - 7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Національний ботанічний сад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7 сесі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Український мовно-інформаційний фонд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4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dur="indefinite" fill="hold">
                      <p:stCondLst>
                        <p:cond delay="indefinite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проблем математичних машин і систем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3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Кримська астрофізична обсерваторія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3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світової економіки та міжнародних відносин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2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демографії та соціальних досліджень - 2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українознавства -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2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політичних і етнонаціональних досліджень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2 сесії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3962520"/>
            <a:ext cx="85345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нститут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технічної механіки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регіональних досліджень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- 1 сесі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проблем прикладної механіки і математики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космічних досліджень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геотехнічної механіки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транспортних систем і технологій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dur="indefinite" fill="hold">
                      <p:stCondLst>
                        <p:cond delay="indefinite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" y="3962520"/>
            <a:ext cx="8534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магнетизму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іоносфери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географії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геології і геохімії горючих копалин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проблем природокористування та екології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Український науково-дослідний гідрометеорологічний інститут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3962520"/>
            <a:ext cx="8534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Фізико-технічний інститут металів і сплавів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iмпульсних процесiв i технологiй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чорної металургiї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термоелектрики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технічної теплофізики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проблем машинобудування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" y="3962520"/>
            <a:ext cx="8534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проблем моделювання в енергетиці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вугільних енерготехнологій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проблем безпеки атомних електростанцій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новітніх тенологій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геохімії навколишнього середовища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електрофiзики і радіаційних технологій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28600" y="3962520"/>
            <a:ext cx="8534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органічної хімії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колоїдної хімії та хімії води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хімії поверхні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бiоколоїдної хiмiї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фізіології рослин і генетики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клітинної біології та генетичної інженерії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dur="indefinite" fill="hold">
                      <p:stCondLst>
                        <p:cond delay="indefinite"/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3962520"/>
            <a:ext cx="8534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Міжнародний інститут клітинної біології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біології південних морів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екології Карпат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Донецький ботанічний сад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Криворізький ботанічний сад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Державний природознавчий музей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dur="indefinite" fill="hold">
                      <p:stCondLst>
                        <p:cond delay="indefinite"/>
                      </p:stCondLst>
                      <p:childTnLst>
                        <p:par>
                          <p:cTn id="4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" y="3962520"/>
            <a:ext cx="8534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Карадагзький природний заповідник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економіки промисловості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економіко-правових досліджень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проблем ринку, економіки та екологічних досліджень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української археографії та джерелознавства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європейських досліджень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dur="indefinite" fill="hold">
                      <p:stCondLst>
                        <p:cond delay="indefinite"/>
                      </p:stCondLst>
                      <p:childTnLst>
                        <p:par>
                          <p:cTn id="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dur="indefinite" fill="hold">
                      <p:stCondLst>
                        <p:cond delay="indefinite"/>
                      </p:stCondLst>
                      <p:childTnLst>
                        <p:par>
                          <p:cTn id="4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5105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logo-natlib_____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pic>
        <p:nvPicPr>
          <p:cNvPr id="142" name="logo_elsevier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1038240" cy="1152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19320" y="23623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ScienceDirect Freedom Col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logo_ScienceDirect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1201680" cy="1258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7200" y="3124080"/>
            <a:ext cx="81532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айбільший пакет на платформі Science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1791 назва вида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24 предметні рубрики (по 37-545 назв кож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овнотекстове охоплення 2001-2006 р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інститутами НАН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3886200"/>
            <a:ext cx="853452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держави і права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Одеський археологічний музей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енціклопедичних досліджень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мовознавства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мистецтвознавства, фольклористики та етнології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Інститут народознавства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Iнститут української мови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не користувалися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dur="indefinite" fill="hold">
                      <p:stCondLst>
                        <p:cond delay="indefinite"/>
                      </p:stCondLst>
                      <p:childTnLst>
                        <p:par>
                          <p:cTn id="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за базами да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309600" y="3722760"/>
          <a:ext cx="860904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3722760"/>
                    <a:ext cx="86090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за базами да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309600" y="3722760"/>
          <a:ext cx="860904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3722760"/>
                    <a:ext cx="86090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за базами да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09600" y="3722760"/>
          <a:ext cx="860904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3722760"/>
                    <a:ext cx="86090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dur="indefinite" fill="hold">
                      <p:stCondLst>
                        <p:cond delay="indefinite"/>
                      </p:stCondLst>
                      <p:childTnLst>
                        <p:par>
                          <p:cTn id="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dur="indefinite" fill="hold">
                      <p:stCondLst>
                        <p:cond delay="indefinite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за базами да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09600" y="3722760"/>
          <a:ext cx="860904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3722760"/>
                    <a:ext cx="86090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dur="indefinite" fill="hold">
                      <p:stCondLst>
                        <p:cond delay="indefinite"/>
                      </p:stCondLst>
                      <p:childTnLst>
                        <p:par>
                          <p:cTn id="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dur="indefinite" fill="hold">
                      <p:stCondLst>
                        <p:cond delay="indefinite"/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004760" y="2897280"/>
            <a:ext cx="709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Показники використання передплачених матеріалів за базами да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309600" y="3722760"/>
          <a:ext cx="860904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3722760"/>
                    <a:ext cx="86090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dur="indefinite" fill="hold">
                      <p:stCondLst>
                        <p:cond delay="indefinite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0" name=""/>
          <p:cNvGraphicFramePr/>
          <p:nvPr/>
        </p:nvGraphicFramePr>
        <p:xfrm>
          <a:off x="685800" y="4114800"/>
          <a:ext cx="760716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760716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1979640" y="2897280"/>
            <a:ext cx="63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Користування зведеним каталогом онлайнової період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4"/>
          <a:stretch/>
        </p:blipFill>
        <p:spPr>
          <a:xfrm>
            <a:off x="849240" y="2887560"/>
            <a:ext cx="951120" cy="89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7" name=""/>
          <p:cNvGraphicFramePr/>
          <p:nvPr/>
        </p:nvGraphicFramePr>
        <p:xfrm>
          <a:off x="704880" y="4143240"/>
          <a:ext cx="7657920" cy="17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4880" y="4143240"/>
                    <a:ext cx="765792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1981080" y="28195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Вартість повних текстів статей для Національної академії наук України у 2006 роц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0000" y="1073520"/>
            <a:ext cx="81010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Times New Roman"/>
              </a:rPr>
              <a:t>Аналіз статистики використання</a:t>
            </a:r>
            <a:br>
              <a:rPr sz="3600"/>
            </a:b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онлайнових науково-інформаційних ресурсів установами НАН України у 2006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Amer%20dollars%20sm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1371600" cy="11876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914400" y="457200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За даними видавництва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lsevier</a:t>
            </a: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 у 2006 році середня вартість однієї наукової статті складала близько € 35,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З урахуванням рівня використання пакету передплати, для Національної академії наук України в 2006 році вартість однієї статті склала € 2,2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logo-natlib_____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600200" y="15238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590920"/>
            <a:ext cx="7848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З питань підтримки онлайнових науково-інформаційних ресурсів, передплачених НБУВ на 2007 рік звертайтеся до Центру комп’ютерних технологій НБУ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Телефон: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 8 (044) 524-95-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Email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nbuvbibl@bigmir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отактні особи: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енис Соловян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ікторія Копан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38496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5105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logo-natlib_____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pic>
        <p:nvPicPr>
          <p:cNvPr id="149" name="logo_elsevier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103824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04920" y="2057400"/>
            <a:ext cx="8839080" cy="1258920"/>
            <a:chOff x="304920" y="2057400"/>
            <a:chExt cx="8839080" cy="1258920"/>
          </a:xfrm>
        </p:grpSpPr>
        <p:sp>
          <p:nvSpPr>
            <p:cNvPr id="151" name=""/>
            <p:cNvSpPr/>
            <p:nvPr/>
          </p:nvSpPr>
          <p:spPr>
            <a:xfrm>
              <a:off x="1219320" y="236232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808080"/>
                  </a:solidFill>
                  <a:latin typeface="Arial"/>
                </a:rPr>
                <a:t>ScienceDirect Freedom Collec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logo_ScienceDirect" descr=""/>
            <p:cNvPicPr/>
            <p:nvPr/>
          </p:nvPicPr>
          <p:blipFill>
            <a:blip r:embed="rId3"/>
            <a:stretch/>
          </p:blipFill>
          <p:spPr>
            <a:xfrm>
              <a:off x="304920" y="2057400"/>
              <a:ext cx="120168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304920" y="3429000"/>
            <a:ext cx="8610480" cy="1335240"/>
            <a:chOff x="304920" y="3429000"/>
            <a:chExt cx="8610480" cy="1335240"/>
          </a:xfrm>
        </p:grpSpPr>
        <p:sp>
          <p:nvSpPr>
            <p:cNvPr id="154" name=""/>
            <p:cNvSpPr/>
            <p:nvPr/>
          </p:nvSpPr>
          <p:spPr>
            <a:xfrm>
              <a:off x="1600200" y="3429000"/>
              <a:ext cx="7315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808080"/>
                  </a:solidFill>
                  <a:latin typeface="Arial"/>
                </a:rPr>
                <a:t>ScienceDirect Polythematic Collec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logo_ScienceDirect" descr=""/>
            <p:cNvPicPr/>
            <p:nvPr/>
          </p:nvPicPr>
          <p:blipFill>
            <a:blip r:embed="rId4"/>
            <a:stretch/>
          </p:blipFill>
          <p:spPr>
            <a:xfrm>
              <a:off x="304920" y="3505320"/>
              <a:ext cx="120168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304920" y="4724280"/>
            <a:ext cx="8839080" cy="1258920"/>
            <a:chOff x="304920" y="4724280"/>
            <a:chExt cx="8839080" cy="1258920"/>
          </a:xfrm>
        </p:grpSpPr>
        <p:sp>
          <p:nvSpPr>
            <p:cNvPr id="157" name=""/>
            <p:cNvSpPr/>
            <p:nvPr/>
          </p:nvSpPr>
          <p:spPr>
            <a:xfrm>
              <a:off x="1219320" y="502920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808080"/>
                  </a:solidFill>
                  <a:latin typeface="Arial"/>
                </a:rPr>
                <a:t>ScienceDirect China Collec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logo_ScienceDirect" descr=""/>
            <p:cNvPicPr/>
            <p:nvPr/>
          </p:nvPicPr>
          <p:blipFill>
            <a:blip r:embed="rId5"/>
            <a:stretch/>
          </p:blipFill>
          <p:spPr>
            <a:xfrm>
              <a:off x="304920" y="4724280"/>
              <a:ext cx="12016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1600200" y="2895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ith Earth &amp; Planetary Science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5715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Всього 1791 назва вида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5715000"/>
            <a:ext cx="3886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1819 назв вида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715000"/>
            <a:ext cx="3886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1832 назви вида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715000"/>
            <a:ext cx="3886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1835 назв вида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971800"/>
            <a:ext cx="9144000" cy="298872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ільше 60 000 00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укових реферат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ільше 7 000 000 повних тексті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формата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DF та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5105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logo-natlib_____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pic>
        <p:nvPicPr>
          <p:cNvPr id="168" name="logo_elsevier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69" name="logo_scopus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4819680" cy="60156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04920" y="2362320"/>
            <a:ext cx="8381880" cy="1328400"/>
            <a:chOff x="304920" y="2362320"/>
            <a:chExt cx="8381880" cy="1328400"/>
          </a:xfrm>
        </p:grpSpPr>
        <p:sp>
          <p:nvSpPr>
            <p:cNvPr id="171" name=""/>
            <p:cNvSpPr/>
            <p:nvPr/>
          </p:nvSpPr>
          <p:spPr>
            <a:xfrm>
              <a:off x="304920" y="3048120"/>
              <a:ext cx="83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66"/>
                  </a:solidFill>
                  <a:latin typeface="Times New Roman"/>
                </a:rPr>
                <a:t>загальнонаукова реферативна база дани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05520" y="236232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66"/>
                  </a:solidFill>
                  <a:latin typeface="Times New Roman"/>
                </a:rPr>
                <a:t> – </a:t>
              </a:r>
              <a:r>
                <a:rPr b="0" lang="ru-RU" sz="3600" spc="-1" strike="noStrike">
                  <a:solidFill>
                    <a:srgbClr val="000066"/>
                  </a:solidFill>
                  <a:latin typeface="Times New Roman"/>
                </a:rPr>
                <a:t>це найбільша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80880" y="4800600"/>
            <a:ext cx="838224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15 000 наукових вида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4 000 видавниц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хронологічне охоплення з 1966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8098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більше 29 000 000 запис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141560"/>
            <a:ext cx="510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5242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09480" y="2362320"/>
            <a:ext cx="7201080" cy="520560"/>
            <a:chOff x="609480" y="2362320"/>
            <a:chExt cx="7201080" cy="520560"/>
          </a:xfrm>
        </p:grpSpPr>
        <p:sp>
          <p:nvSpPr>
            <p:cNvPr id="180" name=""/>
            <p:cNvSpPr/>
            <p:nvPr/>
          </p:nvSpPr>
          <p:spPr>
            <a:xfrm>
              <a:off x="609480" y="2362320"/>
              <a:ext cx="632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800" spc="-1" strike="noStrike">
                  <a:solidFill>
                    <a:srgbClr val="000066"/>
                  </a:solidFill>
                  <a:latin typeface="Times New Roman"/>
                </a:rPr>
                <a:t>Б</a:t>
              </a:r>
              <a:r>
                <a:rPr b="0" lang="en-GB" sz="2800" spc="-1" strike="noStrike">
                  <a:solidFill>
                    <a:srgbClr val="000066"/>
                  </a:solidFill>
                  <a:latin typeface="Times New Roman"/>
                </a:rPr>
                <a:t>ази даних на платформ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6934320" y="2438280"/>
              <a:ext cx="87624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447920" y="3124080"/>
            <a:ext cx="228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1640" y="290844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cademic Search Prem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09480" y="2895480"/>
            <a:ext cx="876600" cy="419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1640" y="34131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Regional Business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440" y="388152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440" y="3124080"/>
            <a:ext cx="1440" cy="27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1640" y="5680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Library, Information Science &amp; Technology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440" y="488952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1640" y="31608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Business Source Prem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1640" y="4672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rrent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1640" y="54291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Library Literature &amp; Information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1640" y="39164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ocINDEX With Full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1640" y="41688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E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3665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omputer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1640" y="49244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Biological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1640" y="44211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In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1640" y="51768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pplied Science &amp; Technology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440" y="33764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440" y="41324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440" y="3629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440" y="51404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2440" y="4637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440" y="43848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440" y="53928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440" y="5645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440" y="589752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6380280"/>
            <a:ext cx="91440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Copyright (C) 2006, Denys Solovianen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V. Vernadsky National Library of Uk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1141560"/>
            <a:ext cx="510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Онлайнові ресур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524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524240" cy="60984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609480" y="2362320"/>
            <a:ext cx="7201080" cy="520560"/>
            <a:chOff x="609480" y="2362320"/>
            <a:chExt cx="7201080" cy="520560"/>
          </a:xfrm>
        </p:grpSpPr>
        <p:sp>
          <p:nvSpPr>
            <p:cNvPr id="213" name=""/>
            <p:cNvSpPr/>
            <p:nvPr/>
          </p:nvSpPr>
          <p:spPr>
            <a:xfrm>
              <a:off x="609480" y="2362320"/>
              <a:ext cx="632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66"/>
                  </a:solidFill>
                  <a:latin typeface="Times New Roman"/>
                </a:rPr>
                <a:t>Бази даних на платформ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6934320" y="2438280"/>
              <a:ext cx="87624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1447920" y="312408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0560" y="2895480"/>
            <a:ext cx="30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cademic Search Prem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09480" y="2895480"/>
            <a:ext cx="876600" cy="419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030560" y="3327480"/>
            <a:ext cx="30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Regional Business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37702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440" y="3124080"/>
            <a:ext cx="1440" cy="27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1640" y="5680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Library, Information Science &amp; Technology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440" y="488952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0560" y="311148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Business Source Prem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1640" y="467208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rrent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1640" y="54291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Library Literature &amp; Information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0560" y="3760920"/>
            <a:ext cx="30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ocINDEX With Full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1640" y="41688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E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0560" y="3543480"/>
            <a:ext cx="24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omputer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1640" y="4924440"/>
            <a:ext cx="25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Biological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1640" y="4421160"/>
            <a:ext cx="9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In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1640" y="5176800"/>
            <a:ext cx="469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pplied Science &amp; Technology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7480" y="333864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98628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355428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440" y="51404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440" y="4637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440" y="43848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440" y="53928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440" y="5645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440" y="589752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7480" y="3124080"/>
            <a:ext cx="50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957480" y="3976560"/>
            <a:ext cx="2884680" cy="398880"/>
            <a:chOff x="3957480" y="3976560"/>
            <a:chExt cx="2884680" cy="398880"/>
          </a:xfrm>
        </p:grpSpPr>
        <p:sp>
          <p:nvSpPr>
            <p:cNvPr id="243" name=""/>
            <p:cNvSpPr/>
            <p:nvPr/>
          </p:nvSpPr>
          <p:spPr>
            <a:xfrm>
              <a:off x="4030560" y="3976560"/>
              <a:ext cx="281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</a:rPr>
                <a:t>Environment Comple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57480" y="420228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57480" y="3986280"/>
              <a:ext cx="1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957480" y="4192560"/>
            <a:ext cx="2503800" cy="398880"/>
            <a:chOff x="3957480" y="4192560"/>
            <a:chExt cx="2503800" cy="398880"/>
          </a:xfrm>
        </p:grpSpPr>
        <p:sp>
          <p:nvSpPr>
            <p:cNvPr id="247" name=""/>
            <p:cNvSpPr/>
            <p:nvPr/>
          </p:nvSpPr>
          <p:spPr>
            <a:xfrm>
              <a:off x="4030560" y="4192560"/>
              <a:ext cx="243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</a:rPr>
                <a:t>Scientific Americ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57480" y="441792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57480" y="4202280"/>
              <a:ext cx="180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957480" y="4408560"/>
            <a:ext cx="4788000" cy="398880"/>
            <a:chOff x="3957480" y="4408560"/>
            <a:chExt cx="4788000" cy="398880"/>
          </a:xfrm>
        </p:grpSpPr>
        <p:sp>
          <p:nvSpPr>
            <p:cNvPr id="251" name=""/>
            <p:cNvSpPr/>
            <p:nvPr/>
          </p:nvSpPr>
          <p:spPr>
            <a:xfrm>
              <a:off x="4030560" y="440856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Times New Roman"/>
                </a:rPr>
                <a:t>Computers &amp; Applied Sciences Comple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57480" y="463392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7480" y="4417920"/>
              <a:ext cx="1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2:22Z</dcterms:created>
  <dc:creator>Bashkatova</dc:creator>
  <dc:description/>
  <dc:language>en-US</dc:language>
  <cp:lastModifiedBy>Bashkatova</cp:lastModifiedBy>
  <dcterms:modified xsi:type="dcterms:W3CDTF">2007-02-01T13:45:21Z</dcterms:modified>
  <cp:revision>24</cp:revision>
  <dc:subject/>
  <dc:title>Мережеве інформаційне забезпечення наукових досліджень з використанням телекомунікаційної інфраструктури НАН України</dc:title>
</cp:coreProperties>
</file>