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6DA-600D-4C9E-AD74-9E435DB3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F42-02E8-4C83-8264-D4B7E809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B94-D3C4-4EA3-A6FE-08BDF8CD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C87-5A07-4761-8745-B053F9E9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91B-84FC-43DD-BF64-35B68C62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72C-6C60-49EC-9623-C18EE7BD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C48-9640-44A0-82ED-59CD83FD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F5ED-7308-4BD8-9629-3126D7C7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456-A4DE-48C7-B77F-A7E069C8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211-6363-42D5-84F4-F7E88837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0AA-9066-4A0F-8C0A-A2DEDC4C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B04-9ABD-4792-8DE0-0BA301F8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2C1A-FC4E-42CB-B282-1A42008226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pntb.ru/" TargetMode="External"/><Relationship Id="rId2" Type="http://schemas.openxmlformats.org/officeDocument/2006/relationships/hyperlink" Target="http://www.elnit.ru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4941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66"/>
                </a:solidFill>
                <a:latin typeface="Times New Roman"/>
              </a:rPr>
              <a:t>И Р Б И С</a:t>
            </a:r>
            <a:br>
              <a:rPr sz="8800"/>
            </a:b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Киев, апрель 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5335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Системы автоматизации библиоте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и систе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554120" cy="237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62120" y="457200"/>
          <a:ext cx="549000" cy="54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57200"/>
                    <a:ext cx="5490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7467480" y="228600"/>
          <a:ext cx="787680" cy="1000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67480" y="228600"/>
                    <a:ext cx="7876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Система автоматизации библиот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РБИС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Форматы и стандар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51460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Библиографическое описание и выходные формы на основе правил, стандартов и зако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олная совместимость с форматами UNIMARC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RUSMARC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и MARC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1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8380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Система автоматизации библиот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РБИС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Простота об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ростые решения для интерфей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одробная электронная и печатная документ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«Горячая» помощь на каждом этапе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8380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Система автоматизации библиот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РБИС</a:t>
            </a:r>
            <a:br>
              <a:rPr sz="2400"/>
            </a:b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Поставки и версии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ерсия для работы под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S 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емо-верс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ини-ИРБ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дульная поста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Базовая поста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Расширенная поста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олная поста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пециальные поставки для медицинских библиот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Новые версии системы - каждые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месяц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8380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Система автоматизации библиот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РБИС</a:t>
            </a:r>
            <a:br>
              <a:rPr sz="2400"/>
            </a:b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Ценовая поли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Компонента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Стоимость (без НДС)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US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Система ИРБИС (базовая поставка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2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АРМ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Администратор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5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АРМ К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мплектатор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АРМ К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аталогизатор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АРМ К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ниговыдача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5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АРМ Ч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итатель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АРМ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Книгообеспеченность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АРМ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МБА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Мини-ИРБИС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eb-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Читатель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eb-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ИРБИС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CP/IP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сервер  (10 пользователей)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 6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Модули для полнотекстовых баз данных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8380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Система автоматизации библиот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РБИС</a:t>
            </a:r>
            <a:br>
              <a:rPr sz="2400"/>
            </a:b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Ценовая политика</a:t>
            </a:r>
            <a:br>
              <a:rPr sz="2400"/>
            </a:b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(скид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Для членов Ассоциации ЭБНИТ – 30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Для корпоративных проектов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– 20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Для участников Конференций «КРЫМ» и «ЛИБКОМ» (во время их работы) – 50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Специальные 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8380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Система автоматизации библиот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РБИС</a:t>
            </a:r>
            <a:br>
              <a:rPr sz="2400"/>
            </a:b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Ценовая политика</a:t>
            </a:r>
            <a:br>
              <a:rPr sz="2400"/>
            </a:b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(разные ес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Times New Roman"/>
              </a:rPr>
              <a:t>ИРБИС32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Если у Вас ИРБИС под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MS/DOS – 50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Если у Вас Мини-ИРБИС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– его стоимость вычит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Times New Roman"/>
              </a:rPr>
              <a:t>ИРБИС64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Если у Вас ИРБИС32 – только стоимость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TCP/IP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-серв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Times New Roman"/>
              </a:rPr>
              <a:t>Подсистема полных текс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Если у Вас ИРБИС64 – вычитается стоимость АРМ Администратор (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$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8380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Система автоматизации библиот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РБИС</a:t>
            </a:r>
            <a:br>
              <a:rPr sz="2400"/>
            </a:b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Сопровождение и обу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-- Гарантийное сопровождение – в рамках стоимости поста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-- Постгарантийное сопровождение – 1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%</a:t>
            </a: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 каталожной цены в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-- В сопровождение входят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Поставка новых верс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Ответы на вопросы и консультации по всем видам связ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-- Открытый форум для всех пользователей и не пользова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-- Постоянно действующая «Школа ИРБИС» (очная и дистанционная) с выдачей Удостоверения установленного образца по лицензированному курсу «Компьютерные технологии в библиотеках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-- Постоянные консультационные занятия на Международных конференциях «Крым» и «Либком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-- Выездные научно-практические семина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8380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Система автоматизации библиот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РБИС</a:t>
            </a:r>
            <a:br>
              <a:rPr sz="2400"/>
            </a:b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Цифры и ге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-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Более 1200 пользователе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- Система работает в библиотеках различных уровней и типов в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Азербайджа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Армен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ff"/>
                </a:solidFill>
                <a:latin typeface="Arial"/>
              </a:rPr>
              <a:t>Беларус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Великобрит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Груз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Израил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Казахста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Киргизста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Росс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СШ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Узбекиста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Украи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-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Система распространяется 31-м представител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838080" cy="1447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V="1">
            <a:off x="-1044720" y="3569400"/>
            <a:ext cx="1052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Система автоматизации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би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ff"/>
                </a:solidFill>
                <a:latin typeface="Times New Roman"/>
              </a:rPr>
              <a:t>Система автоматизации библиотек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ИРБИ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Мы рады сотрудничать с Вами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Тел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(095) </a:t>
            </a: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928-49-13,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(095) </a:t>
            </a: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924-44-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-mail: elnit@gpntb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gpntb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lnit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886200" y="1676520"/>
            <a:ext cx="12952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Системы автоматизации библиотек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Основные треб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Работа в локальных вычислитель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Средства поддержки Web-технологий и протокола Z39.5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Средства для ведения и использования Авторитетных файлов и Алфавитно-предметных указател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оддержка традиционных «бумажных» технолог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оддержка полных текстов, графических данных и других внешних объектов (Электронная библиотек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ногоязыч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Возможности для адапт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Открыт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Системы автоматизации библиотек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Российский 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  Научно-производственное объединение «Информ-систем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AИБС «МАР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Times New Roman"/>
              </a:rPr>
              <a:t>://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www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Times New Roman"/>
              </a:rPr>
              <a:t>.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informsystema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Times New Roman"/>
              </a:rPr>
              <a:t>.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ru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ее 1000 пользователей. Приводится таблица цен. Есть форум. Есть демоверсия (скачать можно по паролю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2. ООО «Открытые библиотечные системы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АБИС «Руслан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abis.ruslan.ru/rusl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1 пользователь. Таблицы цен нет. Форума нет, но есть раздел – «Часто задаваемые вопросы». Есть демоверсии с ограничени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564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Системы автоматизации библиотек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Российский 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3. Компания «ДИТ-М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OPAC-Global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 OPAC-ma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ditm.r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 пользовател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A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4 пользовател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A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Таблицы цен нет. Форума нет. Есть демонстрац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A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ере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4. Петрозаводский государственный университ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АИБС ФОЛИ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foliant.r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3 пользователя. Таблицы цен нет. Форума нет. Демоверсии н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Системы автоматизации библиотек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Российский 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5. ГИВЦ Минкульт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АС «БИБЛИОТЕКА 3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givc.r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7 пользователей. Приводится таблица цен. Есть форум, Демоверсии н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6. ООО «БКС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Библиотека 5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bks-mgu.r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ых о пользователях нет. Приводится таблица цен. Есть демоверсии. Форума н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Системы автоматизации библиотек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Российский 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7. Ярославский государственный университ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«Бук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buki.yar.r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 пользователей. Приводится таблица цен. Есть форум. Есть демоверс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8. Компания ЛИБЭ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Программа LiberMedia и АИБС ABSOTHE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libermedia.r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ых о пользователях нет. Приводится таблица цен. Форума нет, но есть ответы на вопросы. Демоверсии н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564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Система автоматизации библиот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РБИС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Основные характерис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Работа в локальных вычислительных сетях любого типа без ограничения количества пользовател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Средства поддержки Web-технологий и протокола Z39.5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оддержка произвольного количества баз дан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ехнология автоматического формирования словар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Средства для ведения и использования Авторитетных файлов и Алфавитно-предметных указателей к УДК/ББ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оддержка традиционных “бумажных” технолог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оддержка полных текстов, графических данных и других внешних объектов (включая ресурсы Interne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Средства для перевода интерфейсов на другие язы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ногоязыч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Широкие возможности для адапт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Открыт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956720" y="404640"/>
            <a:ext cx="8380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Система автоматизации библиот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РБИС</a:t>
            </a:r>
            <a:br>
              <a:rPr sz="2400"/>
            </a:b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Состав продуктов семейства</a:t>
            </a:r>
            <a:br>
              <a:rPr sz="2400"/>
            </a:b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ИРБИС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.  Мини-ИРБ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Администр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Каталогиз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Читат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2.  Пять модулей базовой постав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Администр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Комплект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Каталогиз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Читат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Книговы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3. Расширенная постав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Пять модулей базовой поставки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Книгообеспеченность 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МБ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4.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Web-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Читатель  – Модуль, обеспечивающий удаленный поиск через Интер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5.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Web-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ИРБИС – Модуль, обеспечивающий удаленный поиск через Интернет с компонентой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Z39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6. Универсальный интерфейс для классификационных сист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8380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Система автоматизации библиот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РБИС</a:t>
            </a:r>
            <a:br>
              <a:rPr sz="2400"/>
            </a:b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Состав продуктов семейства</a:t>
            </a:r>
            <a:br>
              <a:rPr sz="2400"/>
            </a:b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ИРБИС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1.  Пять модулей базовой поставки + серв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дминистр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Комплек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Каталогиз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Чит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Книговыдач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CP/IP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-серв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2. Специальные модули для полнотекстовых баз да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дминистр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Чит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3.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Web-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Читатель – Модуль, обеспечивающий удаленный поиск через Интерн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4.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Web-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ИРБИС – Модуль, обеспечивающий удаленный поиск через Интернет с компонентой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Z39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8380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15:02:32Z</dcterms:created>
  <dc:creator>Boris Marshak </dc:creator>
  <dc:description/>
  <dc:language>en-US</dc:language>
  <cp:lastModifiedBy>Kostenko</cp:lastModifiedBy>
  <cp:lastPrinted>2000-02-04T13:59:04Z</cp:lastPrinted>
  <dcterms:modified xsi:type="dcterms:W3CDTF">2005-04-19T14:10:12Z</dcterms:modified>
  <cp:revision>100</cp:revision>
  <dc:subject/>
  <dc:title>И Р Б И С</dc:title>
</cp:coreProperties>
</file>