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49E-2E56-459A-8114-C2EE1839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D47-B585-4750-84E1-A6FB8F24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1D4-0EC3-4F67-9BD6-1297F1CF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9E9-7BEE-4065-8A67-CCAEAEB8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722-D68D-481E-AF0F-B995875B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B704-443C-49FB-B82D-A0A73283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2792-93F5-4A2D-AB85-A4E4B1B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E8DA-6C46-489A-A55B-9CD09EE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BBE6-225D-4278-B955-695AF460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037-380C-44AE-B583-B8456D9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4B2-9C3F-45FE-B566-ACAF364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BAF-4A45-4652-BA61-3DB46A6D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92F3-C2E6-4FE3-BFDF-4CB145F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460B-C73F-478D-8FFA-2DBD952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C58-C74F-4BCD-A281-F1190BEA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2BB-8A9F-4C38-8269-6F701C41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8595-B306-49CA-B422-D0974A7D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AF4-F3EE-4B37-A7B8-07671E07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F89-29FC-4C52-9138-6A5CBF9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9EE-6239-4A4E-96DF-B8D61709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2C9-DFD8-471F-AD00-C7D31834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7BE-D0D8-4BEF-A685-D03EB9F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C3E-3CD8-4BB2-B7BC-1E283EC5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38B-DA83-47C2-B6E1-2A3A8E4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0D2-780E-42C8-8385-6F082A7B6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0882-FED0-4B04-A25E-04F20A15B4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1628640"/>
            <a:ext cx="7921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Про підсумки наукової діяльності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установ Відділення у 2009 році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та перспективи розвитку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фундаментальних і прикладних досліджень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у галузі соціогуманітарних наук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1640" y="3573000"/>
            <a:ext cx="727236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Онищенко Олексій Семенович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академік-секретар Відділенн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історії, філософії і права НАН Україн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академік НАН України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48904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півробітниками Інституту української археографії та джерелознавства ім.М.С.Грушевського НАН України було проведено ро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 пошуку, археографічного та джерелознавчого опрацювання національної писемної історико-культурної спадщин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286000" cy="295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48904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ауковий колектив Інститу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європейських дослідж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АН України досліджув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роблеми  культур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цивілізаційного діалог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іж Україною та Європо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собливості демократичн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оделі вл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278080" cy="303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248760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Інституті українознав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ім. І.Крип’якевича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озроблялися проблеми істор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країнської культу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ромадсько-політичного та національно-визвольного руху в Україні, історичної та діалектної лексики української мов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2011320" cy="29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248904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Фахівцями Центру пам’яткознав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НАН України і УТОПІК розроблял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проблеми вітчизня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пам’яткознавства, зокрема, метод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створення реєстру некрополістич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пам’яток України, створ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електронної бази да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пам’яток козацької д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3800" y="2565360"/>
            <a:ext cx="229716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248904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півробітниками Інститу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енциклопедичних дослідж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АН України здійснювал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фундаментальні та приклад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ослідження в галуз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енциклопедознавства, розроблял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етодичні засади створ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ових енциклопедичних ви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33532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48904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 Національній бібліотеці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ім. В.І.Вернадського здійснювала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алізація проекту з формуван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аціонального депозитарі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електронних версій науков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еріодики України як складов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єдиної інформаційної системи «Бібліотека XXI столітт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20574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059280" y="248904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Львівською національною науко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бібліотекою України ім. В.Стефа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підготовлено і видано монографії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«Українська преса Галичини (1919-1939 рр.) і журналістикознавчий дискурс»,  «Українська преса у Німеччині 1919—1945 рр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</a:rPr>
              <a:t>формування та функціонуван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2489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2489040"/>
            <a:ext cx="567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Інституті археології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осліджувалися проблеми археолог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 стародавньої історії Украї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ультурних зв’язків насел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країни у кам’яному та  мід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ронзовому віках, історії кіммерійц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 скіфів, давньої історії слов’я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озвитку давньоруських поселень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2303280" cy="31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2457720"/>
            <a:ext cx="56750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Інституті сходознав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ім. А.Ю. Кримського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осліджувалися проблеми історії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ови, матеріальної та духовн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падщини Сходу, соці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економічного та політичного розвитку країн Близького та Далекого Сходу, наукової спадщини А.Ю.Кримського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06532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изнання наукових результаті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2487600"/>
            <a:ext cx="56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альними зборами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ійсним членом НАН України обр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л.-кор. НАН України Ю.А.Левенц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ленами-кореспонд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АН України — В.П.Андрущ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.С.Бакірова, Г.Ю.Івакі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.Ф.Колесника, М.М.Романю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.П.Толочка, В.М.Шаповал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27640" y="2637000"/>
            <a:ext cx="2352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20932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Соціогуманітарний розді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фундаментальної прац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«Соціально-економічний стан України: наслідки для народу та держав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національна доповідь»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О.С.Онищенко, В.А.Смолій, Ю.А.Левенець, В.М.Ворона, М.В.Попович, Ю.С.Шемшученко, Г.В.Боряк, О.М.Майборода та ін.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Дякую за увагу 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2133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Запитанн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3047760" cy="320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исока нагород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260388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Академіка НАН України Леоніда Васильовича Губерського удостоєно звання Герой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 врученням й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рдена Держав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0240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43072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07600" y="2346120"/>
            <a:ext cx="57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Інституті соціології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дійснено фундаментальні дослідж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ну та тенденцій розви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країнського суспільства, науков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шуки щодо системного осмисл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учасних соціальних трансформаці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кладних процесів демократиз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країнського суспіль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9760" y="2492280"/>
            <a:ext cx="243036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3276720" y="2417400"/>
            <a:ext cx="55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Інституті держави і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ім. В.М.Корецького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ироблено теоретичні, методологічні та юридико-технічні підходи до удосконалення процесу введення законів в дію для вирішення завда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ідвищення ефектив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ітчизняного законода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251080" cy="305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3276720" y="241740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Інституті політич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і етнонаціональних дослідж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ім. І.Ф.Кураса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осліджувалися фундаменталь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роблеми політичного устрою України,  процеси розвитку політичних еліт України, політичні технології подолання економічних кр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2417400"/>
            <a:ext cx="54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Фахівцями Інституту філософ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ім. Г.С. Сковороди НАН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досліджено проблеми раціональ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як чинника європейської інтегр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країни, формування методологічн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ази природознавства ХХІ сторічч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етичних вимірів природничонаукових дослід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50668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489040"/>
            <a:ext cx="54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 Центрі гуманітарної осв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АН України досліджено пробл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філософсько-методологічної культури, постнекласичної методології і технології пізн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 практичної діяльност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садничих принцип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уманітарної експерти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5322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Вагом</a:t>
            </a: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результа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424320" y="2417400"/>
            <a:ext cx="505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Інституті історії Украї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АН України опубліко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онографії «Люди и кн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древнерусских летопис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ередины ХІ – ХIII вв.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Адміністративно-територіаль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стрій України: еволюці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учасний стан, пробл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формування» та і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511360" cy="33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2:19:05Z</dcterms:created>
  <dc:creator>Kostenko</dc:creator>
  <dc:description/>
  <dc:language>en-US</dc:language>
  <cp:lastModifiedBy>Kostenko</cp:lastModifiedBy>
  <dcterms:modified xsi:type="dcterms:W3CDTF">2010-05-06T16:02:52Z</dcterms:modified>
  <cp:revision>300</cp:revision>
  <dc:subject/>
  <dc:title>Слайд 1</dc:title>
</cp:coreProperties>
</file>